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CF67-C2CC-42DC-879A-D5257592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74D-768B-4C7D-9043-BABEE115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C55-EFA1-4F47-B951-1DC04E07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416-E478-4867-A916-493E2517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789-6CE6-4C5E-92A2-6AEA24CE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E7D-19EA-457D-ADB2-7652AD55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516C-A28A-4E9C-863D-922030B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FB6-1D52-422A-891B-0110014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8B0-8FCA-459D-AB83-D80E15F2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497-475A-4CCF-96C7-C8A7DB93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506-26EF-4940-AE41-CC5F4CD9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70C-0AEB-49FC-848E-166FBB3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4E13-713A-4F24-AB58-CA9EFC4892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7480" y="69840"/>
            <a:ext cx="1928520" cy="673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600280" y="71280"/>
            <a:ext cx="52354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9:52:42Z</dcterms:created>
  <dc:creator>Josef Feuerstein</dc:creator>
  <dc:description/>
  <dc:language>en-US</dc:language>
  <cp:lastModifiedBy>Josef Feuerstein</cp:lastModifiedBy>
  <dcterms:modified xsi:type="dcterms:W3CDTF">2010-03-29T19:59:02Z</dcterms:modified>
  <cp:revision>1</cp:revision>
  <dc:subject/>
  <dc:title>Folie 1</dc:title>
</cp:coreProperties>
</file>