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1.png" ContentType="image/png"/>
  <Override PartName="/ppt/media/image29.png" ContentType="image/png"/>
  <Override PartName="/ppt/media/image42.png" ContentType="image/png"/>
  <Override PartName="/ppt/media/image11.png" ContentType="image/png"/>
  <Override PartName="/ppt/media/image6.png" ContentType="image/png"/>
  <Override PartName="/ppt/media/image36.png" ContentType="image/png"/>
  <Override PartName="/ppt/media/image10.png" ContentType="image/png"/>
  <Override PartName="/ppt/media/image35.png" ContentType="image/png"/>
  <Override PartName="/ppt/media/image5.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02518AE-41A6-4C7D-8D3C-3476FB114412}"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49440" y="744480"/>
            <a:ext cx="5373360" cy="3721320"/>
          </a:xfrm>
          <a:prstGeom prst="rect">
            <a:avLst/>
          </a:prstGeom>
          <a:ln w="0">
            <a:noFill/>
          </a:ln>
        </p:spPr>
      </p:sp>
      <p:sp>
        <p:nvSpPr>
          <p:cNvPr id="291"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49440" y="744480"/>
            <a:ext cx="5376600" cy="3722760"/>
          </a:xfrm>
          <a:prstGeom prst="rect">
            <a:avLst/>
          </a:prstGeom>
          <a:ln w="0">
            <a:noFill/>
          </a:ln>
        </p:spPr>
      </p:sp>
      <p:sp>
        <p:nvSpPr>
          <p:cNvPr id="293" name="PlaceHolder 2"/>
          <p:cNvSpPr>
            <a:spLocks noGrp="1"/>
          </p:cNvSpPr>
          <p:nvPr>
            <p:ph type="body"/>
          </p:nvPr>
        </p:nvSpPr>
        <p:spPr>
          <a:xfrm>
            <a:off x="887040" y="4716360"/>
            <a:ext cx="5008680" cy="1842516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sion "EAITranslator" 1.0.0 "EAITranslat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AITranslato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OutputDirectory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monPartsPath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ordalOption = "RELATIV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tructureOption = "PER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WhichFiles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miOption = ”PART_AND_AS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artMoni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triStripOpt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To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Brep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brepPrecision = "DOUBL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NameSanitiz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eleteUnusedPar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pdateChangedPartsOn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boseReport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AsciiAssemb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inglePartsNoAssem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LowLODgenrat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martLODgeneratio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umLODs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Filte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N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ayerON = "1,26,11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FF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tadata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1"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2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2"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2</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3"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Config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Solid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Facet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Wirefr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heet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olid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FaceColo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Laye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tessella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XTBrep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Top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fSet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Attribute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mportIntoIma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ItemNam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vi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xcludeVia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PreferredRefSe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ewPMI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potWeldSize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Note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Csy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Weld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Mpaw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cf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o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i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atu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PMI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LeafNod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Fil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Invisibl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Reporting = "ERROR, WARNING, INFO"</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soleReporting = "ERR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FileName = "UG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Refsets = "DEFAUL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tInstanceNumber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Densit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Volu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SurfaceArea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pim=yes -u=%TceUser% -p=%TceUserPassword%</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inputfile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DB/BgStrukEx-KBG-01_01/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20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03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noupd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config="%tessConfig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save_outside_iman -force_output_dir="%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generate_assy_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JTFile_LP%\__Assembly.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single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generate_bookmark=%JTFile_LP%\__AssemblyBookMark.bk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nopopul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löeschen aller vorherigen Ergebnis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d /D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del /S /Q /F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command vollständig zusammensetze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JobParamete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Execute_ugtopv_log_DPNE=%temp%\_JobExecute_ugtopv.exe_log.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Info_DPNE=%temp%\_toRunInfo_DPNE.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echo %toRun%&gt;%toRunInfo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Echo %toRu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for /d %%i in (%JobParameter%) do Echo Para: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or /d %%i in (%toRun%) do Echo ToRun: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49440" y="744480"/>
            <a:ext cx="5376600" cy="3722760"/>
          </a:xfrm>
          <a:prstGeom prst="rect">
            <a:avLst/>
          </a:prstGeom>
          <a:ln w="0">
            <a:noFill/>
          </a:ln>
        </p:spPr>
      </p:sp>
      <p:sp>
        <p:nvSpPr>
          <p:cNvPr id="287"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649440" y="744480"/>
            <a:ext cx="5376600" cy="3722760"/>
          </a:xfrm>
          <a:prstGeom prst="rect">
            <a:avLst/>
          </a:prstGeom>
          <a:ln w="0">
            <a:noFill/>
          </a:ln>
        </p:spPr>
      </p:sp>
      <p:sp>
        <p:nvSpPr>
          <p:cNvPr id="289"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E7B0ADA7-3915-4EF4-9D71-6952EF83BF1B}"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69772E9D-23C5-42E5-9D0A-E96CF5A9C857}" type="datetime">
              <a:rPr b="0" lang="de-DE" sz="1000" spc="-1" strike="noStrike">
                <a:solidFill>
                  <a:srgbClr val="000000"/>
                </a:solidFill>
                <a:latin typeface="Arial Narrow"/>
              </a:rPr>
              <a:t>28.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erzeugung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6"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7"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Arbeiten mit ugtopv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Beispiel 1 Export Einzelteil in ein 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Beispiel 2 Export Einzelteile in ein Verzeichniss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1" action="ppaction://hlinksldjump"/>
              </a:rPr>
              <a:t>Beispiel 3 Enzelteile im Teamcenter 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4 Export Baugruppe Monolitish in ein 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Wie können solche Vorgänge insgesammt automatie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ab den folgenden Folien</a:t>
            </a:r>
            <a:endParaRPr b="1" lang="en-US" sz="1800" spc="-1" strike="noStrike">
              <a:solidFill>
                <a:srgbClr val="1d287a"/>
              </a:solidFill>
              <a:latin typeface="Arial"/>
            </a:endParaRPr>
          </a:p>
        </p:txBody>
      </p:sp>
      <p:sp>
        <p:nvSpPr>
          <p:cNvPr id="253" name=""/>
          <p:cNvSpPr txBox="1"/>
          <p:nvPr/>
        </p:nvSpPr>
        <p:spPr>
          <a:xfrm>
            <a:off x="1195560" y="1590840"/>
            <a:ext cx="6924600" cy="34956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gemerktes J.F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 Optionsschalter NX5</a:t>
            </a:r>
            <a:endParaRPr b="1" lang="en-US" sz="1800" spc="-1" strike="noStrike">
              <a:solidFill>
                <a:srgbClr val="1d287a"/>
              </a:solidFill>
              <a:latin typeface="Arial"/>
            </a:endParaRPr>
          </a:p>
        </p:txBody>
      </p:sp>
      <p:sp>
        <p:nvSpPr>
          <p:cNvPr id="255" name=""/>
          <p:cNvSpPr/>
          <p:nvPr/>
        </p:nvSpPr>
        <p:spPr>
          <a:xfrm>
            <a:off x="303120" y="992160"/>
            <a:ext cx="9145800" cy="563364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sage: D:\UGS\UGNX5\PVTRANS\ugtopv.exe &lt;.prt | .bkm | directory | file&gt; [-pim=yes] [-noupd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ngle_part] [-config=&lt;file&gt;] [-save_outside_ima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e_bookmark] [-generate_assy_jt] [-nopopul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orce_output_dir] [-rev=&lt;revision rule&gt;] [-transform={&lt;transform&g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l options for running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elp              Print this messag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xamples          Provide some examples of how to run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pim=yes           If running Teamcenter Integration for NX</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update          Don't update assembly structure after loading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the component jt files are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ingle_part       Just generate a jt file for the top part being process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config=&lt;file&gt;     Name of the file containing tessellation parameter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ave_outside_iman Save the jt data outside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force_output_dir  Write the jt files to the location specified by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OutputDirectory setting in the tess.config file 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location specified by the optional directory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output directory&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onour_structure  Honours the structureOption value in the tess.config fil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in the format previously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by the ugtojt translator. This allows support f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ONOLITHIC and FULL_SHATTER structure option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will fully load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The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produced can not be used for interoperatio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assemblies are outpu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bookmark Produce a bookmark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bookmark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assy_jt  Produce an assembly jt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assy jt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populate        Don't produce any component jt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ssy_refset_exclude   Applicable only in Teamcenter Engineering mode, and if</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ing a bookmark without the -noupdate fla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corresponding to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reference set for each component as they are view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rom their parent assemblies. Components excluded b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ssembly level reference sets will be ignor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may load assembly files partial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rev=&lt;rule&gt;        Specifies which revision rule to use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assembly. This can only be used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iles stored within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ransform={&lt;transform&gt;}     Specifies a transform to apply to the geometr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n each component. This transform is a comma sepa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ist of 12 floats with the forma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X1, X2, X3, Tx, Y1, Y2, Y3, Ty, Z1, Z2, Z3, Tz}</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XTbrep            Produces Parasolid B-rep instead of JT B-rep</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Gtess            Forces translator to use UG's tessellat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Übersicht JT erzeugungs Ergebniss und Einstellungen</a:t>
            </a:r>
            <a:endParaRPr b="1" lang="en-US" sz="1800" spc="-1" strike="noStrike">
              <a:solidFill>
                <a:srgbClr val="1d287a"/>
              </a:solidFill>
              <a:latin typeface="Arial"/>
            </a:endParaRPr>
          </a:p>
        </p:txBody>
      </p:sp>
      <p:graphicFrame>
        <p:nvGraphicFramePr>
          <p:cNvPr id="257" name=""/>
          <p:cNvGraphicFramePr/>
          <p:nvPr/>
        </p:nvGraphicFramePr>
        <p:xfrm>
          <a:off x="249120" y="1019160"/>
          <a:ext cx="9037800" cy="5451480"/>
        </p:xfrm>
        <a:graphic>
          <a:graphicData uri="http://schemas.openxmlformats.org/drawingml/2006/table">
            <a:tbl>
              <a:tblPr/>
              <a:tblGrid>
                <a:gridCol w="351000"/>
                <a:gridCol w="952560"/>
                <a:gridCol w="3262320"/>
                <a:gridCol w="1795320"/>
                <a:gridCol w="1352520"/>
                <a:gridCol w="1324080"/>
              </a:tblGrid>
              <a:tr h="4543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N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rgebnis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Optioen UgToPv</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instellungen tessUG.Config</a:t>
                      </a:r>
                      <a:br>
                        <a:rPr sz="900"/>
                      </a:br>
                      <a:r>
                        <a:rPr b="1" lang="de-DE" sz="900" spc="-1" strike="noStrike">
                          <a:solidFill>
                            <a:srgbClr val="000000"/>
                          </a:solidFill>
                          <a:latin typeface="Arial Narrow"/>
                        </a:rPr>
                        <a:t>(Auszu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LoadOption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Anwender Standards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558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Files als Einzelteil</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augruppen:</a:t>
                      </a:r>
                      <a:r>
                        <a:rPr b="1"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Standortstandard</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 </a:t>
                      </a:r>
                      <a:r>
                        <a:rPr b="1" lang="de-DE" sz="800" spc="-1" strike="noStrike">
                          <a:solidFill>
                            <a:srgbClr val="000000"/>
                          </a:solidFill>
                          <a:latin typeface="Arial"/>
                        </a:rPr>
                        <a:t>Extras </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57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Assembly ohne neu erzeugung der Einzeltei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generate_assy_j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ingle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popul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662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Monolit</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MONOLITHIC„</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5408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4</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Baugruppe</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inweis: </a:t>
                      </a:r>
                      <a:br>
                        <a:rPr sz="800"/>
                      </a:br>
                      <a:r>
                        <a:rPr b="1" lang="de-DE" sz="800" spc="-1" strike="noStrike">
                          <a:solidFill>
                            <a:srgbClr val="000000"/>
                          </a:solidFill>
                          <a:latin typeface="Arial"/>
                        </a:rPr>
                        <a:t>Toplevel Geometrie fehl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PER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81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5</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 Handhabung der JT Viewer</a:t>
            </a:r>
            <a:endParaRPr b="1" lang="en-US" sz="1800" spc="-1" strike="noStrike">
              <a:solidFill>
                <a:srgbClr val="1d287a"/>
              </a:solidFill>
              <a:latin typeface="Arial"/>
            </a:endParaRPr>
          </a:p>
        </p:txBody>
      </p:sp>
      <p:sp>
        <p:nvSpPr>
          <p:cNvPr id="259" name=""/>
          <p:cNvSpPr/>
          <p:nvPr/>
        </p:nvSpPr>
        <p:spPr>
          <a:xfrm>
            <a:off x="419040" y="1019160"/>
            <a:ext cx="4791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TCE JT View</a:t>
            </a:r>
            <a:endParaRPr b="0" lang="en-US" sz="1000" spc="-1" strike="noStrike">
              <a:solidFill>
                <a:srgbClr val="000000"/>
              </a:solidFill>
              <a:latin typeface="Arial"/>
            </a:endParaRPr>
          </a:p>
        </p:txBody>
      </p:sp>
      <p:grpSp>
        <p:nvGrpSpPr>
          <p:cNvPr id="260" name=""/>
          <p:cNvGrpSpPr/>
          <p:nvPr/>
        </p:nvGrpSpPr>
        <p:grpSpPr>
          <a:xfrm>
            <a:off x="485640" y="1265400"/>
            <a:ext cx="4181400" cy="4762080"/>
            <a:chOff x="485640" y="1265400"/>
            <a:chExt cx="4181400" cy="4762080"/>
          </a:xfrm>
        </p:grpSpPr>
        <p:pic>
          <p:nvPicPr>
            <p:cNvPr id="261" name="" descr=""/>
            <p:cNvPicPr/>
            <p:nvPr/>
          </p:nvPicPr>
          <p:blipFill>
            <a:blip r:embed="rId1"/>
            <a:srcRect l="43611" t="0" r="0" b="0"/>
            <a:stretch/>
          </p:blipFill>
          <p:spPr>
            <a:xfrm>
              <a:off x="485640" y="1265400"/>
              <a:ext cx="4181400" cy="4762080"/>
            </a:xfrm>
            <a:prstGeom prst="rect">
              <a:avLst/>
            </a:prstGeom>
            <a:ln w="0">
              <a:noFill/>
            </a:ln>
          </p:spPr>
        </p:pic>
        <p:sp>
          <p:nvSpPr>
            <p:cNvPr id="262" name=""/>
            <p:cNvSpPr/>
            <p:nvPr/>
          </p:nvSpPr>
          <p:spPr>
            <a:xfrm>
              <a:off x="801360" y="2591280"/>
              <a:ext cx="49608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448280" y="2500920"/>
              <a:ext cx="541080" cy="63144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3358440" y="2621520"/>
              <a:ext cx="72180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5" name=""/>
          <p:cNvSpPr/>
          <p:nvPr/>
        </p:nvSpPr>
        <p:spPr>
          <a:xfrm>
            <a:off x="4854600" y="2044800"/>
            <a:ext cx="479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JTtoGo</a:t>
            </a:r>
            <a:endParaRPr b="0" lang="en-US" sz="1000" spc="-1" strike="noStrike">
              <a:solidFill>
                <a:srgbClr val="000000"/>
              </a:solidFill>
              <a:latin typeface="Arial"/>
            </a:endParaRPr>
          </a:p>
        </p:txBody>
      </p:sp>
      <p:pic>
        <p:nvPicPr>
          <p:cNvPr id="266" name="" descr=""/>
          <p:cNvPicPr/>
          <p:nvPr/>
        </p:nvPicPr>
        <p:blipFill>
          <a:blip r:embed="rId2"/>
          <a:stretch/>
        </p:blipFill>
        <p:spPr>
          <a:xfrm>
            <a:off x="4876920" y="2308320"/>
            <a:ext cx="4762440" cy="3682800"/>
          </a:xfrm>
          <a:prstGeom prst="rect">
            <a:avLst/>
          </a:prstGeom>
          <a:ln w="0">
            <a:noFill/>
          </a:ln>
        </p:spPr>
      </p:pic>
      <p:sp>
        <p:nvSpPr>
          <p:cNvPr id="267" name=""/>
          <p:cNvSpPr/>
          <p:nvPr/>
        </p:nvSpPr>
        <p:spPr>
          <a:xfrm>
            <a:off x="4867200" y="2552760"/>
            <a:ext cx="276480" cy="1998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5172120" y="2543040"/>
            <a:ext cx="237960" cy="2764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5743440" y="2552760"/>
            <a:ext cx="295560" cy="20952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2Go Beispiel Oberfläche </a:t>
            </a:r>
            <a:endParaRPr b="1" lang="en-US" sz="1800" spc="-1" strike="noStrike">
              <a:solidFill>
                <a:srgbClr val="1d287a"/>
              </a:solidFill>
              <a:latin typeface="Arial"/>
            </a:endParaRPr>
          </a:p>
        </p:txBody>
      </p:sp>
      <p:pic>
        <p:nvPicPr>
          <p:cNvPr id="271" name="" descr=""/>
          <p:cNvPicPr/>
          <p:nvPr/>
        </p:nvPicPr>
        <p:blipFill>
          <a:blip r:embed="rId1"/>
          <a:stretch/>
        </p:blipFill>
        <p:spPr>
          <a:xfrm>
            <a:off x="423720" y="1042920"/>
            <a:ext cx="6777360" cy="515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NX Einstellungen </a:t>
            </a:r>
            <a:endParaRPr b="1" lang="en-US" sz="1800" spc="-1" strike="noStrike">
              <a:solidFill>
                <a:srgbClr val="1d287a"/>
              </a:solidFill>
              <a:latin typeface="Arial"/>
            </a:endParaRPr>
          </a:p>
        </p:txBody>
      </p:sp>
      <p:pic>
        <p:nvPicPr>
          <p:cNvPr id="273" name="" descr=""/>
          <p:cNvPicPr/>
          <p:nvPr/>
        </p:nvPicPr>
        <p:blipFill>
          <a:blip r:embed="rId1"/>
          <a:stretch/>
        </p:blipFill>
        <p:spPr>
          <a:xfrm>
            <a:off x="681120" y="1066680"/>
            <a:ext cx="5383080" cy="4552920"/>
          </a:xfrm>
          <a:prstGeom prst="rect">
            <a:avLst/>
          </a:prstGeom>
          <a:ln w="0">
            <a:noFill/>
          </a:ln>
        </p:spPr>
      </p:pic>
      <p:sp>
        <p:nvSpPr>
          <p:cNvPr id="274" name=""/>
          <p:cNvSpPr/>
          <p:nvPr/>
        </p:nvSpPr>
        <p:spPr>
          <a:xfrm>
            <a:off x="2400480" y="1628640"/>
            <a:ext cx="2476440" cy="4194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75" name="" descr=""/>
          <p:cNvPicPr/>
          <p:nvPr/>
        </p:nvPicPr>
        <p:blipFill>
          <a:blip r:embed="rId2"/>
          <a:stretch/>
        </p:blipFill>
        <p:spPr>
          <a:xfrm>
            <a:off x="6977160" y="1085760"/>
            <a:ext cx="2485800" cy="2457720"/>
          </a:xfrm>
          <a:prstGeom prst="rect">
            <a:avLst/>
          </a:prstGeom>
          <a:ln w="0">
            <a:noFill/>
          </a:ln>
        </p:spPr>
      </p:pic>
      <p:pic>
        <p:nvPicPr>
          <p:cNvPr id="276" name="" descr=""/>
          <p:cNvPicPr/>
          <p:nvPr/>
        </p:nvPicPr>
        <p:blipFill>
          <a:blip r:embed="rId3"/>
          <a:stretch/>
        </p:blipFill>
        <p:spPr>
          <a:xfrm>
            <a:off x="2243160" y="3914640"/>
            <a:ext cx="721044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a:t>
            </a:r>
            <a:endParaRPr b="1" lang="en-US" sz="1800" spc="-1" strike="noStrike">
              <a:solidFill>
                <a:srgbClr val="1d287a"/>
              </a:solidFill>
              <a:latin typeface="Arial"/>
            </a:endParaRPr>
          </a:p>
        </p:txBody>
      </p:sp>
      <p:sp>
        <p:nvSpPr>
          <p:cNvPr id="27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4\nxcast\parts\ </a:t>
            </a:r>
            <a:r>
              <a:rPr b="1" lang="de-DE" sz="1600" spc="-1" strike="noStrike">
                <a:solidFill>
                  <a:srgbClr val="000000"/>
                </a:solidFill>
                <a:latin typeface="Wingdings"/>
                <a:ea typeface="Wingdings"/>
              </a:rPr>
              <a:t></a:t>
            </a:r>
            <a:r>
              <a:rPr b="1" lang="de-DE" sz="1600" spc="-1" strike="noStrike">
                <a:solidFill>
                  <a:srgbClr val="000000"/>
                </a:solidFill>
                <a:latin typeface="Arial"/>
              </a:rPr>
              <a:t> Part nehmen ? Achtung Einheiten?</a:t>
            </a:r>
            <a:endParaRPr b="1" lang="en-US" sz="1600" spc="-1" strike="noStrike">
              <a:solidFill>
                <a:srgbClr val="000000"/>
              </a:solidFill>
              <a:latin typeface="Arial"/>
            </a:endParaRPr>
          </a:p>
        </p:txBody>
      </p:sp>
      <p:sp>
        <p:nvSpPr>
          <p:cNvPr id="279" name=""/>
          <p:cNvSpPr/>
          <p:nvPr/>
        </p:nvSpPr>
        <p:spPr>
          <a:xfrm>
            <a:off x="505440" y="2144880"/>
            <a:ext cx="7125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V:\JobManager\ProgEntw\Ver02\JobManagerV2\90-DATA\CustomerNameShort_SettingsGlobal\10-JobScripts\JT\ClientScripts\JTgen_via_ugtopv.cmd</a:t>
            </a:r>
            <a:endParaRPr b="0" lang="en-US" sz="1000" spc="-1" strike="noStrike">
              <a:solidFill>
                <a:srgbClr val="000000"/>
              </a:solidFill>
              <a:latin typeface="Arial"/>
            </a:endParaRPr>
          </a:p>
        </p:txBody>
      </p:sp>
      <p:pic>
        <p:nvPicPr>
          <p:cNvPr id="280" name="" descr=""/>
          <p:cNvPicPr/>
          <p:nvPr/>
        </p:nvPicPr>
        <p:blipFill>
          <a:blip r:embed="rId1"/>
          <a:stretch/>
        </p:blipFill>
        <p:spPr>
          <a:xfrm>
            <a:off x="833400" y="2733840"/>
            <a:ext cx="1857240" cy="100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exe Optionsschalter NX2</a:t>
            </a:r>
            <a:endParaRPr b="1" lang="en-US" sz="1800" spc="-1" strike="noStrike">
              <a:solidFill>
                <a:srgbClr val="1d287a"/>
              </a:solidFill>
              <a:latin typeface="Arial"/>
            </a:endParaRPr>
          </a:p>
        </p:txBody>
      </p:sp>
      <p:sp>
        <p:nvSpPr>
          <p:cNvPr id="282" name=""/>
          <p:cNvSpPr/>
          <p:nvPr/>
        </p:nvSpPr>
        <p:spPr>
          <a:xfrm>
            <a:off x="344520" y="1268280"/>
            <a:ext cx="9145440" cy="517320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sage: D:\ugs\ugnx2\PVTRANS\ugtopv.exe &lt;.prt | .bkm | directory | file&gt; [-pim=y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 [-noupdate]  [-single_part] [-config=&lt;file&gt;] [-save_outside_iman]  [-generate_bookmark] [-generate_assy_jt] [-nopopulat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orce_output_dir] [-rev=&lt;revision rule&gt;] [-transform={&lt;transform&g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l options for running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elp              Print this messag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examples          Provide some examples of how to run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pim=yes           If running NX/Manage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update          Don't update assembly structure after loading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the component jt files are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ingle_part       Just generate a jt file for the top part being process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config=&lt;file&gt;     Name of the file containing tessellation parameter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ave_outside_iman Save the jt data outside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force_output_dir  Write the jt files to the location specified by th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OutputDirectory setting in the tess.config file 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location specified by the optional directory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output directory&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onour_structure  Honours the structureOption value in the tess.config fil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is produces jt files in the format previously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by the ugtojt translator. This allows support f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MONOLITHIC and FULL_SHATTER structure option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Warning: This option will fully load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and will therefore use more memory. The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produced can not be used for interoperatio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assemblies are outpu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bookmark Produce a bookmark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bookmark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assy_jt  Produce an assembly jt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assy jt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populate        Don't produce any component jt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rev=&lt;rule&gt;        Specifies which revision rule to use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assembly. This can only be used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iles stored within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transform={&lt;transform&gt;}     Specifies a transform to apply to the geometr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in each component. This transform is a comma sepa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list of 12 floats with the forma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X1, X2, X3, Tx, Y1, Y2, Y3, Ty, Z1, Z2, Z3, Tz}</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XTbrep            Produces Parasolid B-rep instead of JT B-rep</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Gtess            Forces translator to use UG's tessellat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0080" y="447480"/>
            <a:ext cx="9558360" cy="8888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Historie dieser Dokumentation</a:t>
            </a:r>
            <a:br>
              <a:rPr sz="1800"/>
            </a:br>
            <a:endParaRPr b="1" lang="en-US" sz="1800" spc="-1" strike="noStrike">
              <a:solidFill>
                <a:srgbClr val="1d287a"/>
              </a:solidFill>
              <a:latin typeface="Arial"/>
            </a:endParaRPr>
          </a:p>
        </p:txBody>
      </p:sp>
      <p:sp>
        <p:nvSpPr>
          <p:cNvPr id="284" name=""/>
          <p:cNvSpPr/>
          <p:nvPr/>
        </p:nvSpPr>
        <p:spPr>
          <a:xfrm>
            <a:off x="316080" y="1197000"/>
            <a:ext cx="852948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Nr</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Datum</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er </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as</a:t>
            </a:r>
            <a:r>
              <a:rPr b="0" lang="de-DE"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01</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01.05.2008</a:t>
            </a:r>
            <a:r>
              <a:rPr b="0" lang="de-DE" sz="900" spc="-1" strike="noStrike">
                <a:solidFill>
                  <a:srgbClr val="000000"/>
                </a:solidFill>
                <a:latin typeface="Arial"/>
                <a:ea typeface="Times New Roman"/>
              </a:rPr>
              <a:t>	</a:t>
            </a:r>
            <a:r>
              <a:rPr b="0" lang="de-DE" sz="1000" spc="-1" strike="noStrike">
                <a:solidFill>
                  <a:srgbClr val="000000"/>
                </a:solidFill>
                <a:latin typeface="Arial"/>
                <a:ea typeface="Times New Roman"/>
              </a:rPr>
              <a:t>JFES</a:t>
            </a:r>
            <a:r>
              <a:rPr b="0" lang="de-DE" sz="1000" spc="-1" strike="noStrike">
                <a:solidFill>
                  <a:srgbClr val="000000"/>
                </a:solidFill>
                <a:latin typeface="Arial"/>
                <a:ea typeface="Times New Roman"/>
              </a:rPr>
              <a:t>	</a:t>
            </a:r>
            <a:r>
              <a:rPr b="0" lang="de-DE" sz="1000" spc="-1" strike="noStrike">
                <a:solidFill>
                  <a:srgbClr val="000000"/>
                </a:solidFill>
                <a:latin typeface="Arial"/>
                <a:ea typeface="Times New Roman"/>
              </a:rPr>
              <a:t>Erstellung</a:t>
            </a:r>
            <a:endParaRPr b="0" lang="en-US" sz="1000" spc="-1" strike="noStrike">
              <a:solidFill>
                <a:srgbClr val="000000"/>
              </a:solidFill>
              <a:latin typeface="Arial"/>
            </a:endParaRPr>
          </a:p>
        </p:txBody>
      </p:sp>
      <p:sp>
        <p:nvSpPr>
          <p:cNvPr id="285"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32Z</dcterms:modified>
  <cp:revision>469</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