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F61E0-BBC8-4848-8E55-EC94E7C5B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5D8E8-740A-4AC1-A7D5-B58A69932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1EE7D-A9E7-4AA7-9A06-C901AC701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1B129-C593-47C1-AF46-9DCEF8F8E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BB6F3-7737-4F44-AFDA-FCB8E8C54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F4BD0-64D2-4D70-880B-067E11068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E5591-5F94-4008-BFE3-FB4A469B8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2B627-F4BF-4743-A76C-D518C75D1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E8C27-4860-4B49-89A6-AC8929E09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822AB-9512-42AD-B10A-71F91A025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5BDC5-AC14-4CD6-A00B-4214DB298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E0C26-44FE-4D48-9DB0-684953798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0EEA8-AED0-49B1-AFA4-B479E29FFC6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87480" y="69840"/>
            <a:ext cx="1928520" cy="67374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3" descr=""/>
          <p:cNvPicPr/>
          <p:nvPr/>
        </p:nvPicPr>
        <p:blipFill>
          <a:blip r:embed="rId2"/>
          <a:stretch/>
        </p:blipFill>
        <p:spPr>
          <a:xfrm>
            <a:off x="2600280" y="71280"/>
            <a:ext cx="5235480" cy="671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9T19:52:42Z</dcterms:created>
  <dc:creator>Josef Feuerstein</dc:creator>
  <dc:description/>
  <dc:language>en-US</dc:language>
  <cp:lastModifiedBy>Josef Feuerstein</cp:lastModifiedBy>
  <dcterms:modified xsi:type="dcterms:W3CDTF">2010-03-29T19:59:02Z</dcterms:modified>
  <cp:revision>1</cp:revision>
  <dc:subject/>
  <dc:title>Folie 1</dc:title>
</cp:coreProperties>
</file>