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0AC8229-7DD3-4AAD-8B68-E1CA6E4D1994}"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0F391C39-E7A4-429A-AD47-8DDFC1EB4B34}"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FAAF4D16-198D-4A3C-9B78-277F2D18D820}" type="datetime">
              <a:rPr b="0" lang="de-DE" sz="1000" spc="-1" strike="noStrike">
                <a:solidFill>
                  <a:srgbClr val="000000"/>
                </a:solidFill>
                <a:latin typeface="Arial Narrow"/>
              </a:rPr>
              <a:t>29.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