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07537F4-963B-44A6-808A-1EB25D6EBD85}"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2F99A5E4-189E-406D-ADB7-59B1BA7CC037}"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398E2F46-3922-4D10-A212-46340228E7DB}" type="datetime">
              <a:rPr b="0" lang="de-DE" sz="1000" spc="-1" strike="noStrike">
                <a:solidFill>
                  <a:srgbClr val="000000"/>
                </a:solidFill>
                <a:latin typeface="Arial Narrow"/>
              </a:rPr>
              <a:t>29.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