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4659F74-F6E7-4C79-9188-8012817F8362}"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950280B2-FCCE-40F8-BAE5-0A89EC0E514C}"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F22160B8-A970-4FC0-B0FB-EC5D136BB69E}" type="datetime">
              <a:rPr b="0" lang="de-DE" sz="1000" spc="-1" strike="noStrike">
                <a:solidFill>
                  <a:srgbClr val="000000"/>
                </a:solidFill>
                <a:latin typeface="Arial Narrow"/>
              </a:rPr>
              <a:t>29.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