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D1850BB-1F6D-41E9-92F2-C0319AAAF04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DFA0507-CD27-49BD-BC78-3CA74306A18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file                27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SERVER              28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DDEB-6405-42ED-B256-F166A10B5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DFFB-5DAD-4775-8597-02AAEE2B0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C048-8DA3-42B9-968A-57633F2FF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3F09-E884-453B-A96E-D1AB372E8A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AAF2-89AF-440D-8917-193C32CA1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0763-8532-427B-8F67-E66046660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0523-CD9B-4D5E-9866-498F59514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8BDD-0394-462C-8680-5E0ADE0F3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F2CA-B93F-4D33-8F6B-6FAC5E124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46E6-FAB0-440C-BC6D-095F365C1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37EE-60DA-48B0-AEF3-07741A1DF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9FFE-1AE9-4B8F-A9ED-8431A194F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7B643DF-BDA3-41B9-8326-5764AF9BD7F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YYYY#   gedruckt am: </a:t>
            </a:r>
            <a:fld id="{8061AAD8-F6F3-4A15-9C24-0339E53976E7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3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osef.Feuerstein@PLMJobManager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1F12F6B-13B5-4573-870E-BC0E23CCB91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23F2E0D-11A3-448B-96EC-FF4CFC33AC9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51"/>
          <p:cNvSpPr/>
          <p:nvPr/>
        </p:nvSpPr>
        <p:spPr>
          <a:xfrm>
            <a:off x="285840" y="1413000"/>
            <a:ext cx="946296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\\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RACLE_SID=plm2 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AN_DATA=u:\PLM2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and Prompt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UGS_SHR_DIR%\start_apps\windows\start_nx6.bat de tceng_prompt PLM2 2005s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A1B6EC2-298F-4F15-97D8-9B3DBE0A669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4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57EF944-3AED-41C9-A748-6D9791E84A5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file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73076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Liste der Parame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2680" y="1357200"/>
          <a:ext cx="9504360" cy="3165480"/>
        </p:xfrm>
        <a:graphic>
          <a:graphicData uri="http://schemas.openxmlformats.org/drawingml/2006/table">
            <a:tbl>
              <a:tblPr/>
              <a:tblGrid>
                <a:gridCol w="360360"/>
                <a:gridCol w="611280"/>
                <a:gridCol w="2800440"/>
                <a:gridCol w="583920"/>
                <a:gridCol w="1081080"/>
                <a:gridCol w="503280"/>
                <a:gridCol w="1836720"/>
                <a:gridCol w="395280"/>
                <a:gridCol w="1332000"/>
              </a:tblGrid>
              <a:tr h="3751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SP/A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F 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Op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non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bei einem Single Part –y gesetzt so wird das Master nur 1xmal gespei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master/Test000185_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specification/Test000185_1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ein Assembly mit –y refiled dann wird das Master 2xmal gespeich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he Teile Histo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0D94F52-2727-4AE7-97E0-1C08C169F5B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blauf Produktiv Umstel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rbereitung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44520" y="1484280"/>
            <a:ext cx="770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Umziehen der DB auf den neuen Server VAF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Oracle TCE DB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lume Daten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stimmung mit Baumgarner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Zeitliche einschätz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fo von J.Feuerstein: TCE/NX System sollte spätestens bis 14:00 Uhr verfügbar sein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ätzung der Refile Zeiten: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Single Parts bei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Assemblys mit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 </a:t>
            </a:r>
            <a:br>
              <a:rPr sz="1000"/>
            </a:b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ttenplatz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lattenplatz für Oracle RedoLogfiles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Plattenplatz prüfen min 10 GB frei für diesen Zeitrau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lattenplatz für Volume Daten bitte +1/3 mehr frei gegenüber dem Aktuellen Beda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en für den Produktiv Re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von zu prüfenden Baugruppen erstellen bitte eintragen in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\\MyServer\ugsshare\JobManagerV2\11-Documentation.Custom\NXRefile\NX-Refile-Partlisten.x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plante Ter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Prüfung der Ergebnisse am Testsyste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Fr. 23 + Sa 24.10</a:t>
            </a:r>
            <a:br>
              <a:rPr sz="1000"/>
            </a:b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i Änderung der Termine bitte J.Feuerstein so früh wie möglich informieren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bil: 0176-2216-1006 </a:t>
            </a:r>
            <a:r>
              <a:rPr b="0" lang="de-DE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Josef.Feuerstein@PLMJobManager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877F55E-1198-47A9-95FF-88CDFFA3F49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760AFE6-881F-4EC6-B5AC-3B94E72AD56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03-11T12:23:20Z</dcterms:modified>
  <cp:revision>84</cp:revision>
  <dc:subject/>
  <dc:title>PLMJobManagerV2 Docu Custome</dc:title>
</cp:coreProperties>
</file>