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C278089-545D-43A7-9712-4C7BD690837C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Klaus Schol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E7287D8-E4ED-4131-B702-B3EED340307C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B6600-FBD9-4C0A-8DE1-39B975C120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C5AC5-425D-4ED2-9081-5927BAA3DA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036F4-3482-4BB8-9FFD-30CCDF2571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BFF9E-9387-41DB-812D-4F1335256B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7D167-49E0-4820-8D22-350F7CC96A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3FE0B-CEC5-41D3-BC40-2BC19F72AD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A82F4-2ED7-40BC-B8BE-75D65B603B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28365-37AA-41A3-95F9-3DF85D0C51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EE42D-A9CB-4D44-9C0E-468D5DBC13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608ED-B859-4299-944E-2BEFB2C52D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09006-BA4F-4223-89F7-EBB37C3F63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BF9A9-CE35-4DB1-8C85-1E013C6E47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11903-9A2F-4C53-ADD1-D855EEAB16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0A01B-2E97-4136-8E0B-8D3AE913DF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0A116-FE9E-4D59-8983-1A963D672E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66833-7B41-4BE5-811E-F707708574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18B87-4A78-4B24-9042-0B8076E9984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7D1D-7CCB-40F8-8F64-135EE57D925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5C03-85F9-407C-80ED-7E1A7E55C4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ADB6-0DCB-4708-8C7C-5DF4C29A8E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B4D3-BB6E-4E67-9DB5-E6EE7442B1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97D3-6B35-44B4-A9DA-16039330EB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283B0-B25E-4F26-83FA-193A2566B66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629B-05FC-46D9-B591-D6267614D8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F586-723B-4C00-89E4-5795BB9D042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6483-2774-41B2-9B04-32C414D6782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32F1-7FC4-4206-A6B2-E0440EE2455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C186-01AB-4D66-863D-BFF5DE2723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9EFC-DB27-41FD-8C9D-B96E689A08B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D518-D621-4785-BA8A-C2EC174968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0AAC8-4AC7-48A3-8BFE-AA4EEE16AA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6350E-9403-452A-8F7E-A780B41E98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1339B-C152-4552-9A22-B5E865E8F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90C21-FAC4-42D2-A9B5-EA95A5007B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343A1-8DB1-4EB6-B6F0-5AF579EC20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DF2C7-AFB8-49E0-988D-DD7F5DB8A4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Slite </a:t>
            </a:r>
            <a:fld id="{0D06CD1D-E0B2-4421-91DF-61FB23F5A1A0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Setup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60408573-76F2-4520-98FE-F1AEA9F62E2A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2" descr=""/>
          <p:cNvPicPr/>
          <p:nvPr/>
        </p:nvPicPr>
        <p:blipFill>
          <a:blip r:embed="rId9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Setup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B30EDFEA-6537-47ED-9037-1927B8C98983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8FDCF735-BB5B-49B8-AE2D-577DCF69DBF2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Setup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DC1A4A95-69B3-4B07-8809-198CE517B351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1FDAA24D-0731-48DF-9EF8-E2BE826ECEB8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liennummernplatzhalter 2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ED53B705-4346-4FE1-9E3C-B742831067EC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4160" y="3141720"/>
            <a:ext cx="9072360" cy="2627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Setup Dokumentation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7292880" y="5950080"/>
            <a:ext cx="251316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ed by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Name#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ion Date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Date#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9916B73D-2CE0-449E-8593-A0B4A83F5EF9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Insta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r Installation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251"/>
          <p:cNvSpPr/>
          <p:nvPr/>
        </p:nvSpPr>
        <p:spPr>
          <a:xfrm>
            <a:off x="285840" y="1461960"/>
            <a:ext cx="94629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stallation JobServer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 Installation erfolgte auf folgendem Hauptverzeichnis im Netzwerk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NC: \\CustomServer\plmshare\JobManagerV2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mputername des Rechners auf dem der SQL Server Installiert wurd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\\Custom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mputername des Rechners auf dem der JobServer läuft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obServer: \\CustomServer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     Port  13001 .. 13002 muss freigeschaltet se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C – NX Installation Organis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estSystem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C Data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\\CustomServer\plmshare\tctest\data\tnsnames.ora  -&gt; tctest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C Command-Prompt: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\\CustomServer\plmshare\tctest\scripts\start_tc_cmd.cm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%UGS_SHR_DIR%\start_apps\windows\start_nx75.bat de tc_prompt #TcSiteId# tc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A92C09A8-BDB7-4A16-8DAE-1B7EB39AC8F1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stallation SQL Server #Datum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82FDD4E8-3216-4F61-8CED-FE74F0B9119B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#Datum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feld 4"/>
          <p:cNvSpPr/>
          <p:nvPr/>
        </p:nvSpPr>
        <p:spPr>
          <a:xfrm>
            <a:off x="135000" y="1376280"/>
            <a:ext cx="941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feld 1"/>
          <p:cNvSpPr/>
          <p:nvPr/>
        </p:nvSpPr>
        <p:spPr>
          <a:xfrm rot="20913600">
            <a:off x="1430280" y="2395440"/>
            <a:ext cx="6761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lat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py this Slide first and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Documentation into copied sl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2-04-18T21:51:41Z</dcterms:modified>
  <cp:revision>105</cp:revision>
  <dc:subject/>
  <dc:title>PLMJobManagerV2 Docu Custome</dc:title>
</cp:coreProperties>
</file>