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4DEB-F6F2-45E2-872B-A011F9C1C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CDA7-4609-4ECD-AD74-8EFACAE61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0344-A657-4F58-A534-07A987430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A4F8-329F-4306-9EED-DCC284DE70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5518-E659-45B8-A9EA-1F5E666A03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8317-D459-4862-84A5-0CB350ABA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3C50-B0EE-4B3F-9409-4CDB6E9E8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8700-4C62-4AE7-B8E9-5BBD9C1FD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27B5-BBA7-47DF-90BE-F34A77438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3E35-2A36-476F-90B4-B012ADB8C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ECD1-B70A-4EB1-866E-2BDD87CCA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7F9B-AA9D-451C-AF38-77032C3F8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6610F36-D959-49FC-9F48-569C6CAC64F1}" type="slidenum">
              <a:rPr b="0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200?#   gedruckt am: </a:t>
            </a:r>
            <a:fld id="{EB616E91-1D5F-479D-BC67-F18A2C831C75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4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5700"/>
            </a:b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JobPlaner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38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6C29-4997-4C8B-8BD5-28AD9F08AED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35000" y="1413000"/>
            <a:ext cx="946296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BCDF-BB22-4831-AFAA-212E592767A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A48D-DE7B-4FCB-8257-C51CD85CC21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5028-7DFF-42F4-9606-CAFFEF054B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20CF-E8BD-4354-A5CC-1CFD76A43158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09-04-13T09:09:37Z</dcterms:modified>
  <cp:revision>79</cp:revision>
  <dc:subject/>
  <dc:title>PLMJobManagerV2 Docu Custome</dc:title>
</cp:coreProperties>
</file>