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4FB1EDA-4B0E-4DA7-8CF7-0237F0E08C5D}"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C1CC21C-1C32-49BD-9275-FD897A024EE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61A98E37-A249-41FB-8016-8C5D033E510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EC0C0BCE-BF3D-4A4C-A81A-11B61DFE6E6C}"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3489865E-EBA9-4655-A0FC-6BB4E46C0F2E}"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BA55DBD-236E-4325-9734-DD6AACE779E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AE0D1D-998F-4EEE-9EA7-94063F0F2A45}"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E024896B-565A-4B80-AE14-D05336A4BE44}"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0F590BB6-97DB-45A7-BA82-64CC69B190BC}"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D51F083F-D950-48F5-875A-7A59FC8F5927}" type="datetime">
              <a:rPr b="0" lang="de-DE" sz="1000" spc="-1" strike="noStrike">
                <a:solidFill>
                  <a:srgbClr val="000000"/>
                </a:solidFill>
                <a:latin typeface="Arial Narrow"/>
              </a:rPr>
              <a:t>28.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716E0F12-D8C0-4901-AA01-E3B36F6506CC}"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