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201B8AD-6313-492F-99D5-FD4A1AEE972C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C47ADDB-55DF-4203-BC6C-AB56426861C3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gii_license_file                27000@VAF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GII_LICENSE_SERVER              28000@vaf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3C136-3BE6-43C2-975F-8E36BF5424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4361C-FA17-439A-B3DB-044C8D1B34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D2082-D09E-46B9-ACD6-2B9D85AA76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71152-D89F-4215-BB78-C1321E7786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64DB9-AC5B-4E9C-B06D-8132FEB1CA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CFFE6-FB36-4367-AE0F-85C42C2C2A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EDC0F-C58B-47AA-BB0D-862A6F12BB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C0784-7A29-4B95-9E3A-4B67C0AFA6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76564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5F709-07CF-4138-B163-42C4B3D7EA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D5074-03DB-4FFC-9D98-CD5959CCDE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401D5-B015-4278-884B-9F734C2A57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29D3E-5A44-400F-A143-7980AEF3C5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C961DB84-C47E-4BE3-ABBC-1580EF6F17EA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– Docu #CustomerName#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. Stand: #DD.MM.YYYY#   gedruckt am: </a:t>
            </a:r>
            <a:fld id="{947D69AD-3E99-4042-96AD-C515B4D86A63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3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Josef.Feuerstein@PLMJobManager.co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7DC7B7F6-8B80-4E37-A12D-97BE08A46E81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4160" y="3141720"/>
            <a:ext cx="8172360" cy="295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62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6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Customer Dokumentation</a:t>
            </a:r>
            <a:br>
              <a:rPr sz="4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MyApplLogo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7221600" y="6273720"/>
            <a:ext cx="24858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 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9D28BB4A-7608-4673-82D2-BB5160E99ECE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Instal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r Installation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Text Box 251"/>
          <p:cNvSpPr/>
          <p:nvPr/>
        </p:nvSpPr>
        <p:spPr>
          <a:xfrm>
            <a:off x="285840" y="1413000"/>
            <a:ext cx="9462960" cy="29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Organis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erfolgte auf folgendem Hauptverzeichnis im Netzwerk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NC: \\MyServerName\ShareNam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putername des Rechners auf dem der SQL Server Installiert wurde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\\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ste der Standorte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ORACLE_SID=plm2 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MAN_DATA=u:\PLM2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mand Prompt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%UGS_SHR_DIR%\start_apps\windows\start_nx6.bat de tceng_prompt PLM2 2005sr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77BF8760-5BDF-442F-B537-0EEEC489EC08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Setu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die für die Einstellungen des PLMJobManagers Notwendig sind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liennummernplatzhalter 4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740A3CA0-461B-4D83-86A4-A8A25B3B4319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Refile Parame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73076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Liste der Paramete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12680" y="1357200"/>
          <a:ext cx="9504360" cy="3165480"/>
        </p:xfrm>
        <a:graphic>
          <a:graphicData uri="http://schemas.openxmlformats.org/drawingml/2006/table">
            <a:tbl>
              <a:tblPr/>
              <a:tblGrid>
                <a:gridCol w="360360"/>
                <a:gridCol w="611280"/>
                <a:gridCol w="2800440"/>
                <a:gridCol w="583920"/>
                <a:gridCol w="1081080"/>
                <a:gridCol w="503280"/>
                <a:gridCol w="1836720"/>
                <a:gridCol w="395280"/>
                <a:gridCol w="1332000"/>
              </a:tblGrid>
              <a:tr h="3751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br>
                        <a:rPr sz="900"/>
                      </a:b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ype (SP/AP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F Parameter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 Op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G mas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G non Mas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i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keep_volume=yes -update_mod_props=no -non_masters=yes -refile_released=yes -bypass=yes -structure_sync=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master/Test-I001956_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specification/Test-I001956_-_Z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keep_volume=yes -update_mod_props=no -non_masters=yes -refile_released=yes -bypass=yes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y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-structure_sync=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master/Test-I001956_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specification/Test-I001956_-_Z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rd bei einem Single Part –y gesetzt so wird das Master nur 1xmal gespei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66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keep_volume=yes -update_mod_props=no -non_masters=yes -refile_released=yes -bypass=yes -structure_sync=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</a:t>
                      </a:r>
                      <a:br>
                        <a:rPr sz="900"/>
                      </a:b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000185/1/master/Test000185_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000185/1/specification/Test000185_1_Z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rd ein Assembly mit –y refiled dann wird das Master 2xmal gespeich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ehe Teile Histor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E84A2E44-2F0A-404D-9B3C-B9EBA169E36E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blauf Produktiv Umstell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Vorbereitung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44520" y="1484280"/>
            <a:ext cx="770400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rbereitung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Umziehen der DB auf den neuen Server VAF9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Oracle TCE DB von altem Produktive Server auf neuen Server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Volume Daten von altem Produktive Server auf neuen Server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Abstimmung mit Baumgarner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Zeitliche einschätzu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nfo von J.Feuerstein: TCE/NX System sollte spätestens bis 14:00 Uhr verfügbar sein</a:t>
            </a:r>
            <a:br>
              <a:rPr sz="1000"/>
            </a:b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bschätzung der Refile Zeiten: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- Single Parts bei Einsatz von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Rechner ca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Std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- Assemblys mit Einsatz von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Rechner ca.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Std  </a:t>
            </a:r>
            <a:br>
              <a:rPr sz="1000"/>
            </a:br>
            <a:br>
              <a:rPr sz="10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attenplatz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lattenplatz für Oracle RedoLogfiles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Plattenplatz prüfen min 10 GB frei für diesen Zeitraum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Plattenplatz für Volume Daten bitte +1/3 mehr frei gegenüber dem Aktuellen Bedar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rbereitungen für den Produktiv Refi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ste von zu prüfenden Baugruppen erstellen bitte eintragen in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\\MyServer\ugsshare\JobManagerV2\11-Documentation.Custom\NXRefile\NX-Refile-Partlisten.x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eplante Ter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KW XX Prüfung der Ergebnisse am Testsystem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KW XX Fr. 23 + Sa 24.10</a:t>
            </a:r>
            <a:br>
              <a:rPr sz="1000"/>
            </a:b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bei Änderung der Termine bitte J.Feuerstein so früh wie möglich informieren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Mobil: 0176-2216-1006 </a:t>
            </a:r>
            <a:r>
              <a:rPr b="0" lang="de-DE" sz="10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Josef.Feuerstein@PLMJobManager.com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9248BB0B-1A7A-44B1-85F7-1D548D02D2B4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zum Betrieb der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 Betrieb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1CA74E62-C482-4E5F-B0D4-4319C2339C18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otiz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de-DE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03-11T12:23:20Z</dcterms:modified>
  <cp:revision>84</cp:revision>
  <dc:subject/>
  <dc:title>PLMJobManagerV2 Docu Custome</dc:title>
</cp:coreProperties>
</file>