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97C0D-EC10-4007-81BE-5E263898C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FD19-9492-4301-9D63-A325ED2CB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34DB1-EDC8-4DC5-B325-672ED9757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E9AB1-7FBB-4CDB-A969-861C2978AB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C35D8-B216-4FB8-BB10-039FBA2817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8A10-A66A-4434-BD52-5086129DE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3BD0-33C6-4294-97FA-650A78F918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EDFE6-4219-45F6-9E47-4643626D0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C13EB-F52C-4FEF-B6E8-8E169E09B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77B54-FC56-4AA5-9852-444BF49D98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F80ED-EA2D-4D2B-81D0-3B45D75EE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0988B-177C-475C-BCBD-B00CD70D5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1120146A-006D-4663-9A1D-DE2B1BB87A2C}" type="slidenum">
              <a:rPr b="0" lang="en-US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– Docu #CustomerName#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Stand: #DD.MM.200?#   gedruckt am: </a:t>
            </a:r>
            <a:fld id="{D68B326E-D854-4DB0-9DB9-3BEF95F0AD1C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4160" y="3141720"/>
            <a:ext cx="8172360" cy="295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4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5700"/>
            </a:b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JobPlaner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Customer Dokumentation</a:t>
            </a:r>
            <a:br>
              <a:rPr sz="38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21600" y="6273720"/>
            <a:ext cx="24858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rstellt von: 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9369-3C8E-4264-81DC-1105D05B797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35000" y="1413000"/>
            <a:ext cx="9462960" cy="24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Organis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C: \\MyServerName\ShareNam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der Standor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51C3B-F3CA-4BCE-9E1B-02A3B779865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Set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die für die Einstellungen des PLMJobManagers Notwendig si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1487B-906C-4B77-B015-6F4F3DDAB4B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zum Betrieb der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 Betrieb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C7DC-26BA-463D-96B5-603D2F4BB34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57ACA-AE74-462F-8DFB-D81596D9FEA3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09-04-13T09:09:37Z</dcterms:modified>
  <cp:revision>79</cp:revision>
  <dc:subject/>
  <dc:title>PLMJobManagerV2 Docu Custome</dc:title>
</cp:coreProperties>
</file>