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C29419D-AD4F-40A7-B0F0-AA2A1E85A39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14B1445-CED6-4A54-A9CF-2793077F0C5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file                27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SERVER              28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0A9E5-D638-4C92-A373-25E19E503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5C58-C562-4779-9F2E-0EBB90A06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0132-5ABF-460C-A83E-8C1F74A8A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5DF8-A4FA-4CE8-A876-BABE81432E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F364-F05C-48F1-BFCC-5ABF70A4DC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85CF-5C9F-4AB0-8F7A-8B8A27004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F51A-C7B7-494F-AD6F-867F2EA29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BF7C-8C11-433C-B81B-734B36B30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EB3F-01CA-4501-8A4D-3FB70F322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BBB9-3FB9-4A77-A61C-610A39BD0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6976-AE75-40EF-BC2E-DF361AB5B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A1DB-9C23-4F65-9363-901E17BDF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310CB58-6ACF-4F6C-B687-CD8D124627A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YYYY#   gedruckt am: </a:t>
            </a:r>
            <a:fld id="{1BF870EB-47BB-405F-80DB-2B858FA17A02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3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osef.Feuerstein@PLMJobManager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6D385DB-B4DF-4356-AF06-3440A943F56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1574BFB-8B46-43FD-AC95-58D6A960812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251"/>
          <p:cNvSpPr/>
          <p:nvPr/>
        </p:nvSpPr>
        <p:spPr>
          <a:xfrm>
            <a:off x="285840" y="1413000"/>
            <a:ext cx="946296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\\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RACLE_SID=plm2 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MAN_DATA=u:\PLM2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mand Prompt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%UGS_SHR_DIR%\start_apps\windows\start_nx6.bat de tceng_prompt PLM2 2005sr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AE8B841-3225-4F10-BC41-15A8F215A34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liennummernplatzhalter 4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BC762CE-AA33-4155-A0D9-BB1AE93E1B4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file Para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73076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Liste der Paramet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2680" y="1357200"/>
          <a:ext cx="9504360" cy="3165480"/>
        </p:xfrm>
        <a:graphic>
          <a:graphicData uri="http://schemas.openxmlformats.org/drawingml/2006/table">
            <a:tbl>
              <a:tblPr/>
              <a:tblGrid>
                <a:gridCol w="360360"/>
                <a:gridCol w="611280"/>
                <a:gridCol w="2800440"/>
                <a:gridCol w="583920"/>
                <a:gridCol w="1081080"/>
                <a:gridCol w="503280"/>
                <a:gridCol w="1836720"/>
                <a:gridCol w="395280"/>
                <a:gridCol w="1332000"/>
              </a:tblGrid>
              <a:tr h="3751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 (SP/A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F Parame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Op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non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y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bei einem Single Part –y gesetzt so wird das Master nur 1xmal gespei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master/Test000185_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specification/Test000185_1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ein Assembly mit –y refiled dann wird das Master 2xmal gespeich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ehe Teile Histo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88CF211-FAFE-49AA-9D81-89387A30BD5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blauf Produktiv Umstell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rbereitung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44520" y="1484280"/>
            <a:ext cx="7704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Umziehen der DB auf den neuen Server VAF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Oracle TCE DB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Volume Daten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Abstimmung mit Baumgarner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Zeitliche einschätz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fo von J.Feuerstein: TCE/NX System sollte spätestens bis 14:00 Uhr verfügbar sein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ätzung der Refile Zeiten: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Single Parts bei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Assemblys mit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.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 </a:t>
            </a:r>
            <a:br>
              <a:rPr sz="1000"/>
            </a:b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ttenplatz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lattenplatz für Oracle RedoLogfiles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Plattenplatz prüfen min 10 GB frei für diesen Zeitrau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Plattenplatz für Volume Daten bitte +1/3 mehr frei gegenüber dem Aktuellen Beda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en für den Produktiv Ref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von zu prüfenden Baugruppen erstellen bitte eintragen in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\\MyServer\ugsshare\JobManagerV2\11-Documentation.Custom\NXRefile\NX-Refile-Partlisten.x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plante Ter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Prüfung der Ergebnisse am Testsyste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Fr. 23 + Sa 24.10</a:t>
            </a:r>
            <a:br>
              <a:rPr sz="1000"/>
            </a:b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ei Änderung der Termine bitte J.Feuerstein so früh wie möglich informieren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obil: 0176-2216-1006 </a:t>
            </a:r>
            <a:r>
              <a:rPr b="0" lang="de-DE" sz="1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Josef.Feuerstein@PLMJobManager.com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4B32D2B-6F78-4967-B596-E1FE3CB074D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AA2F85C-342B-4108-9C97-C84F62CB9DB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de-DE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03-11T12:23:20Z</dcterms:modified>
  <cp:revision>84</cp:revision>
  <dc:subject/>
  <dc:title>PLMJobManagerV2 Docu Custome</dc:title>
</cp:coreProperties>
</file>