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4DAC534-C1A1-4D36-A2BF-D222598457F5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2_A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A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3_Ap_McTry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9EC3283-A2BC-4D90-B7C5-4510999FF334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317A2-6B86-4B4D-8CF8-3E60F0112F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F36E4-9A6E-4961-AAFC-BB2F0A0340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BB406-FE4B-459E-BBE1-3B970D72D6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14FE9-94E9-4CF2-9FA5-7FF2D35B20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72C9D-8056-4F18-AD2E-7A42FDD2EC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4F19D-D76C-4317-84A3-0507719D59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CD317-A72B-4D1C-9559-A1EA2E959F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E76C4-C185-478B-8450-D3ABA78CB3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9E79D-151F-4B07-A4B6-C0A5A2D87C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49AA9-A387-48DE-AEA7-A33C5674CC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BCCC9-9918-4955-BDC3-2139B64FF8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919F6-4B93-490E-A9C8-26659FEB45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578183CC-9D2B-4A0E-8039-19FCB08A1FF9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etup_Nx75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18.08.2010      gedruckt am: </a:t>
            </a:r>
            <a:fld id="{24DD1038-F536-4C37-88D5-830E268A9B40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4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0FEBAACE-B24C-45C8-9328-27A23582DA72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RefileNx75 – Set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720880" y="1197000"/>
            <a:ext cx="4176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7.5 Sett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ettings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44520" y="1227240"/>
            <a:ext cx="92534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358920" y="3429000"/>
            <a:ext cx="91659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10-29T18:50:33Z</dcterms:modified>
  <cp:revision>175</cp:revision>
  <dc:subject/>
  <dc:title>Refile Manager V1.0</dc:title>
</cp:coreProperties>
</file>