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1498DC4-9094-4579-AE34-0249F2F4096B}"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1A52A8-9556-40E6-9143-FB14F3E5146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746CE49-513F-4381-9FB5-26CC09E5B56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71AF96D5-993B-4C18-ADCA-CDB9F89B9137}"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B92B630-A3F3-4F15-A692-0D662CDC35A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77D0202-7C14-4261-AAAC-47E4DBADA361}"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08C78F8-2B4A-4081-B866-B3734C6D01E7}"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4543028-989A-4513-B101-84720A3E64A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1B78531-3F6C-4C0C-8464-EC6FA10C9200}"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7A0C54A4-D38F-465A-975D-771E67D8576B}" type="datetime">
              <a:rPr b="0" lang="de-DE" sz="1000" spc="-1" strike="noStrike">
                <a:solidFill>
                  <a:srgbClr val="000000"/>
                </a:solidFill>
                <a:latin typeface="Arial Narrow"/>
              </a:rPr>
              <a:t>28.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89F85447-B23F-4217-B284-6D845FC4700B}"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