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550CA29B-AFE4-4AA3-B5EE-C390E1808A3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7C38F9-D128-436D-9716-EBF0E75AB2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02264DE7-D9A4-4394-8DBD-0DC5A351F3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7AB20C45-9381-47BB-A5C6-841117DDE2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0786B3DC-7D71-44E6-AE6C-614C2F9175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6FADE40C-92D5-4483-9C94-E59164B06D5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B4B1FC46-EC5D-42DB-B625-2275F3FA0B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78BBB27B-F876-47EC-B96C-0BE3E6A68B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C56FF34C-C8CE-4D08-90DA-7263D0DC68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8F58DB69-9E84-477D-A7EE-6336AC25F5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9648ACFA-147E-4AF5-AD17-50D632758C8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DCBD048F-976C-4E3C-95B1-9DD21116A66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375945BF-9F7E-4773-9B38-39C454E922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FEDE432B-8AA4-4BDD-8CF0-2280F603B47C}"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E4E98C28-F4CF-4682-871F-94FD79C6CC9B}" type="datetime">
              <a:rPr b="0" lang="de-DE" sz="900" spc="-1" strike="noStrike">
                <a:solidFill>
                  <a:srgbClr val="000000"/>
                </a:solidFill>
                <a:latin typeface="Arial"/>
              </a:rPr>
              <a:t>28.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D835B511-9C6D-483E-8111-4B10F28636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CA37015-EC35-4D68-9145-7347BBE025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F075F293-EFFA-43D8-BA44-A3DFAAB87666}"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58847BC1-EB9A-4A9E-8C13-D9CBC5D9EF01}"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0EEB04-B197-44EE-8D41-789C36CDF6A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8B1AC3-F509-46DF-B9D7-96FBD180B56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9106EA7F-917A-47BE-AC9C-AA85160874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3308A4D6-C515-4DB2-9FB3-16A6CAAB9D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15F72CAB-7443-4BD3-A96F-F40552D90F7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A3E56F-A8AD-461F-B7E6-4F790D0E1E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ED62C86B-E114-4F81-AB21-F02D768AEF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