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AE2B4-C625-4059-9EBD-ED3223BC7F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83F52-8520-4117-B96D-7ED6C17C82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E745D-3D6C-4C88-A806-A7142D12CB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9B1E8-7E94-47B1-B45D-B86EA13E66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C3FDA-472D-4256-9D3A-FCC70DE3C8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63293-CAFC-4876-AF48-147F983CF0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5B6C9-CCCA-4FDB-B9FA-D837DE40EB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7E6CB-B059-46EE-BE0D-7C78B8E3FE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76564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E039E-D570-4D7B-A400-314926FDFF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DE3FE-BA94-4BB8-B7F7-306D8B095C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32150-9709-4107-973F-08F0299A5F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8D87F-09B4-4060-8A6B-FAB44F9ECF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AFFFE25A-7D80-4285-9EF7-6B31F0ABE807}" type="slidenum">
              <a:rPr b="0" lang="en-US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– Docu #CustomerName#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. Stand: #DD.MM.200?#   gedruckt am: </a:t>
            </a:r>
            <a:fld id="{064C24DA-8FB6-4D0A-B7F3-FC3686EF0CE8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4160" y="3141720"/>
            <a:ext cx="8172360" cy="295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4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5700"/>
            </a:b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JobPlaner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Customer Dokumentation</a:t>
            </a:r>
            <a:br>
              <a:rPr sz="38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221600" y="6273720"/>
            <a:ext cx="24858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rstellt von: 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20450-1967-483A-876C-2A3B98FBA96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tschrift Instal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r Installation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35000" y="1413000"/>
            <a:ext cx="9462960" cy="24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Organis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erfolgte auf folgendem Hauptverzeichnis im Netzwerk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NC: \\MyServerName\ShareNam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putername des Rechners auf dem der SQL Server Installiert wurde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ste der Standor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AA7E0-35D2-47EA-96B7-761F28D690B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tschrift Setu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die für die Einstellungen des PLMJobManagers Notwendig sind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10C50-3A33-44D8-BBBE-7864A9A2FCA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tschrift zum Betrieb der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 Betrieb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CC987-4552-4133-AB38-CB0CBD98DFF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iz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79F9D-77E0-441E-8D62-21093FCA557B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09-04-13T09:09:37Z</dcterms:modified>
  <cp:revision>79</cp:revision>
  <dc:subject/>
  <dc:title>PLMJobManagerV2 Docu Custome</dc:title>
</cp:coreProperties>
</file>