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D677E1F-5F32-4068-AFD7-D4DDBDB611FC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2_A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A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3_Ap_McTry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B5A122D-CE47-43C6-9629-09AA05BC3B32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17332-B984-49FA-B197-0AED0BB92E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7D202-7D34-4234-9C70-A9EEF6309A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8DC8E-17D7-45A2-BC49-8554E1F9C2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F5775-FE2B-4070-9A2F-6F5EDC8766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C50A7-78EF-4FB8-9035-C05EF404A4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CFDB8-D799-48B2-BAAC-8399D4B3B3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CA5B6-F14D-4DD7-9E14-5DD7F8F584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997F0-5A80-4218-A7E7-F02EF39CE3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863424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C66F4-02CC-47EE-9EB1-AAD793C466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E4E60-1C01-41A8-88E6-96432ADDFC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3AB7E-5F2E-4376-A05C-F3F47C2E3B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27086-48AA-47BE-B1A6-053F69E916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2937EE92-4EE6-4AFB-9ABF-02B819E4F98C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35000" y="6593040"/>
            <a:ext cx="863424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_etup_Nx75.ppt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18.08.2010      gedruckt am: </a:t>
            </a:r>
            <a:fld id="{72B5E9F1-F4F3-4B51-9E16-A4FDBDB69779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9772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4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8B3EF421-2E0C-41AC-80FF-C3C25480F4A0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5240" y="3897000"/>
            <a:ext cx="7657920" cy="219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r>
              <a:rPr b="1" lang="de-DE" sz="57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RefileNx75 – Sett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yApplLogo"/>
          <p:cNvPicPr/>
          <p:nvPr/>
        </p:nvPicPr>
        <p:blipFill>
          <a:blip r:embed="rId1"/>
          <a:stretch/>
        </p:blipFill>
        <p:spPr>
          <a:xfrm>
            <a:off x="2720880" y="1197000"/>
            <a:ext cx="41767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X7.5 Sett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ettings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344520" y="1227240"/>
            <a:ext cx="92534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3"/>
          <a:stretch/>
        </p:blipFill>
        <p:spPr>
          <a:xfrm>
            <a:off x="358920" y="3429000"/>
            <a:ext cx="91659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10-29T18:50:33Z</dcterms:modified>
  <cp:revision>175</cp:revision>
  <dc:subject/>
  <dc:title>Refile Manager V1.0</dc:title>
</cp:coreProperties>
</file>