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907588" cy="6858000"/>
  <p:notesSz cx="6710363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E432F3-8F9F-4325-8ED3-3520451280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4640" y="102384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F931DB-51BE-43C4-9287-B22800A6A6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612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105413-14F2-463F-8F61-7744D365A3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508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3552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464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508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63552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E70445-4FCC-4908-832F-AF83E9EF51F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E178F0-C797-4067-9CE6-49B9D9B83C5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F2FA3F-7AC1-4806-AE1F-50A48E4ECD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19AE7E-247C-4BFD-B1FA-AA2624137F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ED7BA8-8F1D-47AA-B0D5-704EDE4F45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5000" y="396720"/>
            <a:ext cx="7656480" cy="21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F9BCD8-6574-4BB1-82BB-63D32FBE56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1D4B79-B1FD-40FB-9AE6-1E15596B47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612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BFA85B-2C23-4D5B-9591-E24BBABF0F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EE8020-D67F-4303-8814-83D91179A5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6.wmf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906120" cy="868320"/>
          </a:xfrm>
          <a:prstGeom prst="rect">
            <a:avLst/>
          </a:prstGeom>
          <a:gradFill rotWithShape="0">
            <a:gsLst>
              <a:gs pos="0">
                <a:srgbClr val="dde5ff"/>
              </a:gs>
              <a:gs pos="50000">
                <a:srgbClr val="8da8ff"/>
              </a:gs>
              <a:gs pos="100000">
                <a:srgbClr val="dde5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sldNum" idx="1"/>
          </p:nvPr>
        </p:nvSpPr>
        <p:spPr>
          <a:xfrm>
            <a:off x="7488360" y="6593040"/>
            <a:ext cx="2063520" cy="264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  <a:defRPr b="0" lang="en-US" sz="1000" spc="-1" strike="noStrike">
                <a:solidFill>
                  <a:srgbClr val="000000"/>
                </a:solidFill>
                <a:latin typeface="Eurosti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00BC7EC1-BE7C-4D56-91C6-E977629DCC60}" type="slidenum">
              <a:rPr b="0" lang="en-US" sz="10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14000"/>
          </a:bodyPr>
          <a:p>
            <a:pPr marL="23040" indent="-23040">
              <a:spcBef>
                <a:spcPts val="249"/>
              </a:spcBef>
              <a:buSzPct val="102792"/>
              <a:buBlip>
                <a:blip r:embed="rId2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80640" indent="-23040">
              <a:spcBef>
                <a:spcPts val="249"/>
              </a:spcBef>
              <a:buSzPct val="100000"/>
              <a:buBlip>
                <a:blip r:embed="rId3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2" marL="126360" indent="-22320">
              <a:spcBef>
                <a:spcPts val="249"/>
              </a:spcBef>
              <a:buSzPct val="100000"/>
              <a:buBlip>
                <a:blip r:embed="rId4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3" marL="172800" indent="-23040">
              <a:spcBef>
                <a:spcPts val="249"/>
              </a:spcBef>
              <a:buSzPct val="100000"/>
              <a:buBlip>
                <a:blip r:embed="rId5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4" marL="220320" indent="-24120">
              <a:spcBef>
                <a:spcPts val="249"/>
              </a:spcBef>
              <a:buSzPct val="100000"/>
              <a:buBlip>
                <a:blip r:embed="rId6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5" marL="220320" indent="-24120">
              <a:spcBef>
                <a:spcPts val="249"/>
              </a:spcBef>
              <a:buSzPct val="100000"/>
              <a:buBlip>
                <a:blip r:embed="rId7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6" marL="220320" indent="-24120">
              <a:spcBef>
                <a:spcPts val="249"/>
              </a:spcBef>
              <a:buSzPct val="100000"/>
              <a:buBlip>
                <a:blip r:embed="rId8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"/>
          <p:cNvSpPr/>
          <p:nvPr/>
        </p:nvSpPr>
        <p:spPr>
          <a:xfrm>
            <a:off x="414360" y="6593040"/>
            <a:ext cx="8354880" cy="24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©J.Fes  </a:t>
            </a: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PLMJobMangerV2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– Docu #CustomerName# 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. Stand: #DD.MM.200?#   gedruckt am: </a:t>
            </a:r>
            <a:fld id="{FF7B4F7B-5AA7-40A6-9AD3-FF8F8C8F66A1}" type="datetime">
              <a:rPr b="0" lang="de-DE" sz="900" spc="-1" strike="noStrike">
                <a:solidFill>
                  <a:srgbClr val="000000"/>
                </a:solidFill>
                <a:latin typeface="Arial"/>
              </a:rPr>
              <a:t>28.07.26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6566040"/>
            <a:ext cx="99061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9"/>
          <a:stretch/>
        </p:blipFill>
        <p:spPr>
          <a:xfrm>
            <a:off x="5200560" y="20520"/>
            <a:ext cx="466884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44160" y="3141720"/>
            <a:ext cx="8172360" cy="295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i="1" lang="de-DE" sz="4700" spc="-1" strike="noStrike">
                <a:solidFill>
                  <a:srgbClr val="000000"/>
                </a:solidFill>
                <a:latin typeface="Arial"/>
              </a:rPr>
              <a:t>PLMJobManagerV2</a:t>
            </a:r>
            <a:br>
              <a:rPr sz="5700"/>
            </a:br>
            <a:r>
              <a:rPr b="1" i="1" lang="de-DE" sz="5700" spc="-1" strike="noStrike">
                <a:solidFill>
                  <a:srgbClr val="000000"/>
                </a:solidFill>
                <a:latin typeface="Arial"/>
              </a:rPr>
              <a:t>JobPlaner</a:t>
            </a:r>
            <a:br>
              <a:rPr sz="5700"/>
            </a:br>
            <a:r>
              <a:rPr b="1" lang="de-DE" sz="3800" spc="-1" strike="noStrike">
                <a:solidFill>
                  <a:srgbClr val="000000"/>
                </a:solidFill>
                <a:latin typeface="Arial"/>
              </a:rPr>
              <a:t>Customer Dokumentation</a:t>
            </a:r>
            <a:br>
              <a:rPr sz="3800"/>
            </a:br>
            <a:r>
              <a:rPr b="1" lang="de-DE" sz="3800" spc="-1" strike="noStrike">
                <a:solidFill>
                  <a:srgbClr val="000000"/>
                </a:solidFill>
                <a:latin typeface="Arial"/>
              </a:rPr>
              <a:t>#CustomerName#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003480" y="1006560"/>
            <a:ext cx="3348000" cy="21351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7221600" y="6273720"/>
            <a:ext cx="24858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>
              <a:lnSpc>
                <a:spcPct val="75000"/>
              </a:lnSpc>
              <a:spcBef>
                <a:spcPts val="624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Erstellt von: Josef Feuerste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A2C139-F1FB-4AEA-8D24-BC58EB11D8FE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itschrift Install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marL="166680" indent="-166680">
              <a:spcBef>
                <a:spcPts val="249"/>
              </a:spcBef>
              <a:buSzPct val="102792"/>
              <a:buBlip>
                <a:blip r:embed="rId1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Alle Informationen zur Installation des PLMJobManagers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"/>
          <p:cNvSpPr/>
          <p:nvPr/>
        </p:nvSpPr>
        <p:spPr>
          <a:xfrm>
            <a:off x="135000" y="1413000"/>
            <a:ext cx="9462960" cy="246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Die Installation Organisation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47840" indent="-181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Die Installation erfolgte auf folgendem Hauptverzeichnis im Netzwerk: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UNC: \\MyServerName\ShareName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47840" indent="-181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47840" indent="-181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Computername des Rechners auf dem der SQL Server Installiert wurde: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47840" indent="-181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47840" indent="-181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Liste der Standorte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493E9A-A0BD-4562-BBF8-233528092DA7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itschrift Setup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marL="166680" indent="-166680">
              <a:spcBef>
                <a:spcPts val="249"/>
              </a:spcBef>
              <a:buSzPct val="102792"/>
              <a:buBlip>
                <a:blip r:embed="rId1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Alle Informationen die für die Einstellungen des PLMJobManagers Notwendig sind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81A6D8-F1C5-4E68-B031-E88B802B172D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itschrift zum Betrieb der Softwa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marL="166680" indent="-166680">
              <a:spcBef>
                <a:spcPts val="249"/>
              </a:spcBef>
              <a:buSzPct val="102792"/>
              <a:buBlip>
                <a:blip r:embed="rId1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Alle Informationen zu Betrieb des PLMJobManagers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B89E07-C305-4B86-9A11-EE23C4E57244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tize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F92B8B-E19F-436C-8783-4265C84B1387}" type="slidenum">
              <a:t>5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09:19:42Z</dcterms:created>
  <dc:creator>Josef Feuerstein</dc:creator>
  <dc:description/>
  <dc:language>en-US</dc:language>
  <cp:lastModifiedBy>Josef Feuerstein</cp:lastModifiedBy>
  <cp:lastPrinted>2002-04-15T13:20:54Z</cp:lastPrinted>
  <dcterms:modified xsi:type="dcterms:W3CDTF">2009-04-13T09:09:37Z</dcterms:modified>
  <cp:revision>79</cp:revision>
  <dc:subject/>
  <dc:title>PLMJobManagerV2 Docu Custome</dc:title>
</cp:coreProperties>
</file>