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4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5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6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945C5A6-30A6-45D7-BEA8-B7D66CA7C625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Klaus Schol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2FF64FF-52E9-4328-8AA9-31784E898F59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525A2-F16C-48F3-953B-8ED0BE503D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74A94-B802-444F-AE29-F58E63FA31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3FFF2-3BDE-4EA5-8920-14DD986B7A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02ADD-7E6D-433D-8FCA-B87D712110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D866A-1CAB-4B21-A67A-760CDDB07A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4EDF1-64C5-4761-8846-25FD82F26B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79C1F-0E04-4CCC-BB37-AC4DE04D41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A7275-0929-4C4D-B257-04B852A833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05EC0-0F0F-43BB-A86A-6E1E7F5437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598C2-02CE-451C-9366-CB8B2BB3BD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33D8D-2DD7-4E01-9025-DED443A6DE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C98C4-AAAA-429B-9CA9-CA6DAE0313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0F791-C758-44D7-BC70-D4CE0C1A56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2260E-6690-46A4-B804-EE5F8437E8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78CD9-B834-4533-9BE9-04B897E1CD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EF70C-4565-4182-BC79-04E1F0D94C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A143B-F0E0-48D0-A2E8-9670B4D7CFF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43A1-1D36-4E99-BE33-B8463C71167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FB2C-31DC-430A-B7C1-2D0CB8BC77A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A61B-5A9E-4103-ABA4-2640D6F3DA4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574E-882A-4044-8BAF-5EA3768608D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B15C-7E83-4DC0-98BD-BC66F3ED56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868A7-C7D1-4A12-AEB2-7CA64AFB489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4A17-E594-405F-9F02-A6D7F68CB68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90BD-D5E3-405B-9E45-D2D5FFF84B6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6764-6B40-482D-83BA-4589FFE653E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31FC-80F9-4AC9-8DF8-15949C4FB29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AEB3-2E42-490C-81BA-41DFD374F14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1852-7754-4B5E-9113-7039AB7839A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32EC-DDCF-4FB4-8A17-3B2BEBB6AE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89583-9234-4421-964F-4D12A7DCC1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D336C-30F7-492B-9927-CF380C4D2F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0A508-4E43-44C2-BCD7-2B78C97378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6A171-8918-42DC-99ED-01F7FE9E8E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06BE9-805B-442F-99E7-D2B56D70F8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44611-7F1F-467D-B376-A76EC1A942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Slite </a:t>
            </a:r>
            <a:fld id="{0E521B3F-1669-49B5-8C79-A9EA7440BFD8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PLMDataCheck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93DFC753-EE58-4D34-9F63-1B0428B55CAF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Grafik 2" descr=""/>
          <p:cNvPicPr/>
          <p:nvPr/>
        </p:nvPicPr>
        <p:blipFill>
          <a:blip r:embed="rId9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PLMDataCheck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D851FF53-CB22-4FBC-B413-DB5E3EC3E071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Grafik 2" descr=""/>
          <p:cNvPicPr/>
          <p:nvPr/>
        </p:nvPicPr>
        <p:blipFill>
          <a:blip r:embed="rId2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9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4965AD7A-8B2A-4184-AFA8-336FCE827662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PLMDataCheck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9C478FA6-F047-44F8-B2BD-63870258D905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Grafik 2" descr=""/>
          <p:cNvPicPr/>
          <p:nvPr/>
        </p:nvPicPr>
        <p:blipFill>
          <a:blip r:embed="rId2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9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3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FF67EF04-FF51-4489-BC77-10C63FBAFB7F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liennummernplatzhalter 2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E814FD60-DE9D-4349-AC4F-A772CF070A0F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4160" y="3141720"/>
            <a:ext cx="9072360" cy="2627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6200" spc="-1" strike="noStrike">
                <a:solidFill>
                  <a:srgbClr val="000000"/>
                </a:solidFill>
                <a:latin typeface="Arial"/>
              </a:rPr>
              <a:t>PLMJobManagerV2</a:t>
            </a:r>
            <a:br>
              <a:rPr sz="6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PLM Data Check Dokumentation</a:t>
            </a:r>
            <a:br>
              <a:rPr sz="4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#CustomerName#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MyApplLogo"/>
          <p:cNvPicPr/>
          <p:nvPr/>
        </p:nvPicPr>
        <p:blipFill>
          <a:blip r:embed="rId1"/>
          <a:stretch/>
        </p:blipFill>
        <p:spPr>
          <a:xfrm>
            <a:off x="3003480" y="1006560"/>
            <a:ext cx="3348000" cy="21351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0"/>
          <p:cNvSpPr/>
          <p:nvPr/>
        </p:nvSpPr>
        <p:spPr>
          <a:xfrm>
            <a:off x="7292880" y="5950080"/>
            <a:ext cx="251316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reated by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: #Name#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reation Date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: #Date#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liennummernplatzhalter 3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AB173D70-283F-434C-B32F-086AE70BDAA1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Check #Item# #Rev# #Date#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#Date# #Description#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feld 4"/>
          <p:cNvSpPr/>
          <p:nvPr/>
        </p:nvSpPr>
        <p:spPr>
          <a:xfrm>
            <a:off x="236520" y="1252440"/>
            <a:ext cx="941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tart add your Doc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feld 1"/>
          <p:cNvSpPr/>
          <p:nvPr/>
        </p:nvSpPr>
        <p:spPr>
          <a:xfrm rot="20913600">
            <a:off x="1430280" y="2395440"/>
            <a:ext cx="6761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lat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py this Slide first and ad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r Documentation into copied sl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2-04-18T21:49:09Z</dcterms:modified>
  <cp:revision>103</cp:revision>
  <dc:subject/>
  <dc:title>PLMJobManagerV2 Docu Custome</dc:title>
</cp:coreProperties>
</file>