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05E96B7-F2F8-45EF-B033-624B46977F93}"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B154AE9-9E36-4B22-8189-AE8E06FBE195}"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AF28BC1-E008-4B1A-9037-19BFBF37981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77948155-8826-4522-97A8-0CB168DED39A}"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F67E380-6C54-4DAF-A31C-091D8AC12249}"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96C84C1-A357-464A-94D4-E9818E65F4EA}"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86290F5-D9DC-4A41-AF12-9A64FF332E5E}"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33F481-8555-4D8A-8F97-D3E58809934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D4867D88-4971-434A-9892-350DABE4B800}"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4BA2198E-A714-4C99-BC7F-F05E97DA07B3}" type="datetime">
              <a:rPr b="0" lang="de-DE" sz="1000" spc="-1" strike="noStrike">
                <a:solidFill>
                  <a:srgbClr val="000000"/>
                </a:solidFill>
                <a:latin typeface="Arial Narrow"/>
              </a:rPr>
              <a:t>30.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CCCD779C-DDCA-431A-9359-9847D9C8226E}"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