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9DCE434-B3A3-4E6B-B0CE-703279A193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B94D0-6DBD-4FB9-ABC0-22EF6D4259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8C884C36-436A-4B39-8735-76F6A2CC19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8796A77C-080E-465F-A10B-96AD14D235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3DB3138D-C45B-4F07-81E7-CD1DE29A0F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821BE888-55A5-418A-AA9D-9BBD76296E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5406D27C-B7F5-4DBC-9BF5-4972FE4CA8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F88A4E55-0B66-4A0F-8E79-BB6EF5CE8A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38283866-603D-4B87-B592-30A9588733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9B73835E-BED5-4DF2-8FAC-E17D3160C2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B64B3D67-2AE3-4848-BDD2-753F2BB6E1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F8CB7842-92EE-49B8-BC46-3AF1AE9FD9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7BCB9A51-D85F-4608-B370-E98D0FA13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9E86BCB9-FAA1-47F5-8CE0-D2955A8F369A}"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67E74D07-4CAD-479C-8D81-FB9A7EA70599}" type="datetime">
              <a:rPr b="0" lang="de-DE" sz="900" spc="-1" strike="noStrike">
                <a:solidFill>
                  <a:srgbClr val="000000"/>
                </a:solidFill>
                <a:latin typeface="Arial"/>
              </a:rPr>
              <a:t>30.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0A744649-A4CB-4222-82EA-DA02ED0F91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BDDCF-11B0-4322-B691-3B3D507FF1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DF26C3-61D0-4ED7-925E-3AC28A0B3E59}"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7C94A101-F2EB-4BFF-B42D-F7EB19AB8AC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3A211-60D0-46C7-A232-76CAC89227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732CD-5FF8-477A-8AE4-F41EE407D7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9CBE068A-74BD-409A-A08D-147FDDA5F5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04FA304C-76D9-4B20-A244-F34E9471C7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506A5EA4-C0E9-417C-99C7-C33DE316E2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1208F-D210-4FCD-988A-B468EEFC92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BECAC0E6-5AA1-4763-9768-DB797EC037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