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BD21-28E1-4D48-A203-0ACF961B3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C271-6B55-4879-B3A2-1055EACF1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5D86-2636-476C-9EE0-9BA745EBC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1D33-4257-4180-B83B-7008A8BEB8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8F04-1902-4E5A-B19B-38607DF5E1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45EC-D8D5-4FFB-8856-B4803B3F6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F267-2982-4AE8-8C9F-4948886E5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A1FF-FCF4-43FB-8DF3-FE1D08290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FF10-09BA-41AE-93EB-0EA32CC59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4046-1AB3-4DB0-8BF8-25BDAE2F1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BCC6-4E2C-4303-83AE-3AD0D4F70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5A7F-DA03-4AFE-9180-1BC05FE21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86F067E-A7C5-423F-B1D4-D12064C03B13}" type="slidenum">
              <a:rPr b="0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200?#   gedruckt am: </a:t>
            </a:r>
            <a:fld id="{E9456DAD-A3F2-4702-B865-2D116FCB79F8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4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5700"/>
            </a:b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JobPlaner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09DA-42A7-47CC-B520-026FC6FF87E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35000" y="1413000"/>
            <a:ext cx="946296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58C7-FC49-43E1-A484-DC9840E630B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ED74-D8B6-4C47-B97D-01258FADCB4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4ADA-95D3-4C7B-B57F-FC2095F8F9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C9FD-C4BE-40EB-86D9-D475751CB65B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09-04-13T09:09:37Z</dcterms:modified>
  <cp:revision>79</cp:revision>
  <dc:subject/>
  <dc:title>PLMJobManagerV2 Docu Custome</dc:title>
</cp:coreProperties>
</file>