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058400" cy="7772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644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960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9328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644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960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93640" y="298440"/>
            <a:ext cx="67550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4644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9960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9328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4644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69960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93640" y="298440"/>
            <a:ext cx="67550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6080" y="295200"/>
            <a:ext cx="9741960" cy="1103040"/>
            <a:chOff x="316080" y="295200"/>
            <a:chExt cx="9741960" cy="1103040"/>
          </a:xfrm>
        </p:grpSpPr>
        <p:sp>
          <p:nvSpPr>
            <p:cNvPr id="1" name=""/>
            <p:cNvSpPr/>
            <p:nvPr/>
          </p:nvSpPr>
          <p:spPr>
            <a:xfrm>
              <a:off x="316080" y="295200"/>
              <a:ext cx="9741960" cy="110304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921080" y="480240"/>
              <a:ext cx="1760040" cy="36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1276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3828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5104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51040" indent="-21132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51040" indent="-21132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7353360"/>
            <a:ext cx="965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F3E8491C-F6BF-4517-8A54-1619ECF980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11280" y="7108920"/>
            <a:ext cx="901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© 2007. Siemens Product Lifecycle Management Software Inc. All rights reser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616720" y="7353360"/>
            <a:ext cx="4016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93280" y="1609200"/>
            <a:ext cx="90298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349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7108920"/>
            <a:ext cx="901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© 2007. Siemens Product Lifecycle Management Software Inc. All rights reser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16080" y="295200"/>
            <a:ext cx="9741960" cy="1103040"/>
            <a:chOff x="316080" y="295200"/>
            <a:chExt cx="9741960" cy="1103040"/>
          </a:xfrm>
        </p:grpSpPr>
        <p:sp>
          <p:nvSpPr>
            <p:cNvPr id="47" name=""/>
            <p:cNvSpPr/>
            <p:nvPr/>
          </p:nvSpPr>
          <p:spPr>
            <a:xfrm>
              <a:off x="316080" y="295200"/>
              <a:ext cx="9741960" cy="110304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7921080" y="480240"/>
              <a:ext cx="1760040" cy="36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5616720" y="7353360"/>
            <a:ext cx="4016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400320" algn="ctr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586080" algn="ctr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192320" indent="-765360" algn="ctr">
              <a:buClr>
                <a:srgbClr val="949eaa"/>
              </a:buClr>
              <a:buFont typeface="Wingdings" charset="2"/>
              <a:buChar char="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609560" indent="-969840" algn="ctr">
              <a:buClr>
                <a:srgbClr val="949eaa"/>
              </a:buClr>
              <a:buFont typeface="Wingdings" charset="2"/>
              <a:buChar char="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609560" indent="-969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609560" indent="-969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3280" y="1609200"/>
            <a:ext cx="90298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349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4500" spc="-1" strike="noStrike">
                <a:solidFill>
                  <a:srgbClr val="000000"/>
                </a:solidFill>
                <a:latin typeface="Arial"/>
              </a:rPr>
              <a:t>PLM Benutzergruppe 2008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Jobmanagement TCEng/NX Umfel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3280" y="3139560"/>
            <a:ext cx="9029880" cy="17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 Keller, Siemens PL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ulda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609560"/>
            <a:ext cx="822780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teckbrief: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 Ke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S La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olution Architect im Service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Bereich Digital Product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pl-Ing. (FH) Maschinenb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über 10 Jahre Service tät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Maschinen- und Anlagenbau,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chiffb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oftwareentwicklungsprojek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719840" y="1657440"/>
            <a:ext cx="202896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781520" y="6010200"/>
            <a:ext cx="2495520" cy="1038240"/>
          </a:xfrm>
          <a:prstGeom prst="ellipse">
            <a:avLst/>
          </a:prstGeom>
          <a:solidFill>
            <a:srgbClr val="68b53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chnisch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alis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0280" y="6076800"/>
            <a:ext cx="2495520" cy="1038240"/>
          </a:xfrm>
          <a:prstGeom prst="ellipse">
            <a:avLst/>
          </a:prstGeom>
          <a:solidFill>
            <a:srgbClr val="afb4be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tri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rechn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ntakt zur Entwick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63840" y="5924520"/>
            <a:ext cx="2446200" cy="30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emens PL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609560"/>
            <a:ext cx="822780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olle: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indeglied bei Projekten, im Themenumfeld: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JobManager – NXRefile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Kunde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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Siemens PLM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Dipl.Ing. J.Feuerste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organisatorischer Ansprechpart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technischer Ansprechpart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emeinsames Ziel: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erte Aufgabenverteilung als Geschäftsmodell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8720" y="5915160"/>
            <a:ext cx="2451240" cy="305280"/>
          </a:xfrm>
          <a:prstGeom prst="rect">
            <a:avLst/>
          </a:prstGeom>
          <a:solidFill>
            <a:srgbClr val="68b5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pl.Ing. J.Feuers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06680" y="5326200"/>
            <a:ext cx="4889520" cy="4878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ojek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609200"/>
            <a:ext cx="8227800" cy="58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File-Projekte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enig &amp; Bauer A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/S/H (Refile NX2 + NX4) (28 Standor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ndmöller und Höl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orst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ringhau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eudenbe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ntBla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int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emens Konstanz I&amp;S Postsyst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bil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ll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zer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nk AG Augs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ob (in Vorbereit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476520" y="6029280"/>
            <a:ext cx="62391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8.000.000 Datasets mit Hilfe des PLMJobManagers refi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9880" y="4443480"/>
            <a:ext cx="529596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nke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.keller@siemens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30T01:43:30Z</dcterms:created>
  <dc:creator>David Abreu</dc:creator>
  <dc:description/>
  <dc:language>en-US</dc:language>
  <cp:lastModifiedBy>Josef Feuerstein</cp:lastModifiedBy>
  <cp:lastPrinted>1999-11-04T17:34:40Z</cp:lastPrinted>
  <dcterms:modified xsi:type="dcterms:W3CDTF">2008-09-09T09:31:37Z</dcterms:modified>
  <cp:revision>41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lyPaperSize">
    <vt:bool>1</vt:bool>
  </property>
  <property fmtid="{D5CDD505-2E9C-101B-9397-08002B2CF9AE}" pid="3" name="DocID">
    <vt:lpwstr>SVO991109003mkt-2120-189</vt:lpwstr>
  </property>
  <property fmtid="{D5CDD505-2E9C-101B-9397-08002B2CF9AE}" pid="4" name="DocIDPosition">
    <vt:r8>1</vt:r8>
  </property>
  <property fmtid="{D5CDD505-2E9C-101B-9397-08002B2CF9AE}" pid="5" name="DocIDinSlide">
    <vt:bool>1</vt:bool>
  </property>
  <property fmtid="{D5CDD505-2E9C-101B-9397-08002B2CF9AE}" pid="6" name="DocIDinTitle">
    <vt:bool>1</vt:bool>
  </property>
  <property fmtid="{D5CDD505-2E9C-101B-9397-08002B2CF9AE}" pid="7" name="McKinsey Margins">
    <vt:bool>1</vt:bool>
  </property>
  <property fmtid="{D5CDD505-2E9C-101B-9397-08002B2CF9AE}" pid="8" name="Traditional Objects">
    <vt:bool>1</vt:bool>
  </property>
  <property fmtid="{D5CDD505-2E9C-101B-9397-08002B2CF9AE}" pid="9" name="Use 12-pt Templates">
    <vt:bool>1</vt:bool>
  </property>
  <property fmtid="{D5CDD505-2E9C-101B-9397-08002B2CF9AE}" pid="10" name="_NewReviewCycle">
    <vt:lpwstr/>
  </property>
</Properties>
</file>