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C8611D-B25A-4910-8C04-D6FF09345EDE}"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77E62522-7B87-4970-BD4F-734DD4AFC47D}"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2FE7E2DD-3B58-4E26-A397-339C5A492F05}" type="datetime">
              <a:rPr b="0" lang="de-DE" sz="1000" spc="-1" strike="noStrike">
                <a:solidFill>
                  <a:srgbClr val="000000"/>
                </a:solidFill>
                <a:latin typeface="Arial Narrow"/>
              </a:rPr>
              <a:t>31.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