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B559C55-5EFD-4D22-95BA-D0733FDBBF2E}"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75609E15-F05C-4449-AC09-0F91E93FA135}"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CC796245-9BB6-4C27-87A8-BAAD18BDC2C4}" type="datetime">
              <a:rPr b="0" lang="de-DE" sz="1000" spc="-1" strike="noStrike">
                <a:solidFill>
                  <a:srgbClr val="000000"/>
                </a:solidFill>
                <a:latin typeface="Arial Narrow"/>
              </a:rPr>
              <a:t>31.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