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B2D5F09-ACA7-47C8-A719-15FFBA1914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6FD18A-EF51-4888-A7AD-ED78E603B1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522BBB9F-1CFB-4D31-A5AA-4488859E1F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772F8CC6-693E-454C-9CE0-AFBF73E420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0AF3F566-FC99-416F-A2DD-5D94EA1DF0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1EFD99EE-0760-4226-8CC9-732A9715B7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FE52AA8A-EA4A-4CC5-BE8F-9D75D21A8F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2935E7D2-5B86-45C0-96FC-6C28E2663F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8F016AD4-5783-445F-8802-2951ADCA3B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ECC4D3AE-70FF-43C6-81C1-587CD8D189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42FA1F9F-FC8D-454D-BC4D-198D3CD808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9937AFEE-3A3F-4693-9D57-EDF20DC836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376164BB-8339-4F78-A07D-0C631DF9F6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45559F90-97ED-461B-8309-17819DADD300}"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D8488EB7-2758-49E9-B7B8-10A0C4FA7E8D}" type="datetime">
              <a:rPr b="0" lang="de-DE" sz="900" spc="-1" strike="noStrike">
                <a:solidFill>
                  <a:srgbClr val="000000"/>
                </a:solidFill>
                <a:latin typeface="Arial"/>
              </a:rPr>
              <a:t>31.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ACEDC321-9022-4929-A2AC-3B90DB34A1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482BB-381F-47CD-93A9-93C90BF272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AAD0F76-15B6-4BE2-B4D9-0FD9C0FAA08E}"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2E8D156A-47C7-4F02-8F66-B680618E296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F59E2-F1B7-494F-8D62-A7FE60A08F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7A500-33A0-4ACD-B6F7-5EBC3ED9CE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1AACAC09-8527-4322-9836-FD80603D72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3D8E66DD-3B11-4CD7-8B1B-F4F4067228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1C12BEDA-ED0A-4651-B5C4-E0EE6C262D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E27B5-023B-4B4A-9B2A-F848CC031B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F92E08E4-8830-4B99-AA5A-95C9EBE9E8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