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3859-A525-468D-94B8-C0C14C7FF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23F1-6761-41C5-991B-2223AA09C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A7BB-3F8C-4407-BDDE-A6F54525C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F3707-03B8-4535-A044-6A6CD9C0E9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FCAC-F714-445C-A87A-9D60B177FC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9A92-393A-4A72-AEF6-AE68C20F7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447D-21C3-4CD1-8FD9-78BCEEACE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70B3-0050-4824-A223-F65839DED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C129-35DE-4213-9D57-0FECF54B9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1B93-FC9E-444E-B186-3813AD8C2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92AD-0D3A-472E-83A1-22B1FE517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D901-A3AE-4EDE-A7B1-93EAACEDE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33860EB-F1C9-4219-A01A-962A161D683C}" type="slidenum">
              <a:rPr b="0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200?#   gedruckt am: </a:t>
            </a:r>
            <a:fld id="{11404E0A-7065-4568-A090-9EF55093C3D9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4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5700"/>
            </a:b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JobPlaner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38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2EA9-56E3-4955-91BB-CB053003EFC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35000" y="1413000"/>
            <a:ext cx="9462960" cy="24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DB2F-7F84-425C-B7F1-B1EA5B6BF36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2947-7A8F-40D2-A40C-53E7EFC432F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47A7-9452-4FE1-82D6-1764AACCCC3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2CFD-18BD-49A0-B760-D639E23D8B57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09-04-13T09:09:37Z</dcterms:modified>
  <cp:revision>79</cp:revision>
  <dc:subject/>
  <dc:title>PLMJobManagerV2 Docu Custome</dc:title>
</cp:coreProperties>
</file>