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ED3B7BE-3D00-43F6-AEA4-DEF9F68B59D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1D8F540-E5EE-4482-AD9D-63F0148D709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408E-FD80-43C5-A4A3-FF16DA921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36E3-90FD-45FB-B97A-E22B925C9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77B9-A763-4DFF-A4CA-EAA842141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BF76-9A2B-4E65-838B-D67991526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946E5-D750-4360-907B-E00783BF17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137C-527C-4083-AEAB-7358BA21FE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FFBFA-6486-4D30-8D44-BF5195D8E4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2444-1D3B-4C7D-84C7-A8DAC9F7C5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5200-3858-431F-9BA0-86A095AD54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AE69-AC69-4120-9A65-B74381CEA3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7EBD7-DC22-4029-8576-06CC639DF8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8C09-6D78-4BBB-B36F-9ADA15059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6D77-2084-468E-BD54-79A0BE7748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D0914-2000-43E5-BFA2-68FD8E8A79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EF57-EC7B-4784-863C-4B9AC814E7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46AA-5EF5-45CF-954E-34A9F2748F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64AF8-A203-42CE-84C8-89BB524822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692E-DA16-4B0B-985F-CC9ED6BE43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FEA-AD5C-4B59-B885-9CABA422A7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7CE-617F-41EB-A09F-5C6E6CE163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B26-1ADB-4068-B50F-0FFD4FFDD0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A3A-8680-4ABA-9D81-FAC3A32AFC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3735-09E4-42AD-B610-3DCB90D831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CA0-3950-4A87-AD2E-0A9078645F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4AD-CE09-4358-8ACC-8A88A2F170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E05-CEB7-4D5A-83E4-80290BD2BF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AD0-36F9-4C1D-A7F6-6FD5A8B8C4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FAF-CA1A-4B24-9B4C-4612953661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7E7-583F-47BF-A80D-DA536BBE32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985-A860-47B5-851B-42A41326C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CE21-22F6-4A10-8B79-87F3FB9DB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AE10-0FA9-4F01-83E3-6EA3D695D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65F5-001D-4149-8134-AA5D1556E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0014-1003-4A3C-AFA1-EB3A15A4E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3EDE-2EA1-4E61-A53A-02F21C5BF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16FC-2CF7-4DE0-8171-38DA06B4F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B729ECCC-DF1F-4499-8B2E-F160B36F85D3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946E6DD0-0214-4F7C-9F0E-093900654491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E9979ED1-E535-4CFB-8090-FA9D34D33D27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F70D262-68DE-4913-ADF3-DA2872067B7E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A21FCD0F-08CC-4169-85CF-3B140CC43FC0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98D2868-29D9-4E50-BF80-466194015665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0D0D5BF-82BB-4B78-B34F-B2D02AFDA59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PLM Data Check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CCF4866-7973-4CAB-81C0-015A2759291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 #Item# #Rev# #Date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Date# #Description#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feld 4"/>
          <p:cNvSpPr/>
          <p:nvPr/>
        </p:nvSpPr>
        <p:spPr>
          <a:xfrm>
            <a:off x="236520" y="1252440"/>
            <a:ext cx="941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rt add your Doc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49:09Z</dcterms:modified>
  <cp:revision>103</cp:revision>
  <dc:subject/>
  <dc:title>PLMJobManagerV2 Docu Custome</dc:title>
</cp:coreProperties>
</file>