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11.png" ContentType="image/pn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00520" y="-36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-360" y="928332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00520" y="928332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52D038D-C3CF-4B68-A92E-D33547E61EED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00520" y="9283680"/>
            <a:ext cx="2908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C9F480E3-C446-49D1-A9AE-EA5E0179D5CB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:_volum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EM Berechtigungen für Volumes setze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echo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choice /C JN /N /T 30 /D N /M "Berechtigungen fuer Volumes setzen [J\N] "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f %errorlevel% NEQ 1 goto agai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t volumesdir=f:\ugsshare\volumes\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f exist %logdir%\volumes*.* del /q %logdir%\volumes*.* &gt;nu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towner -r MyDomain\srv_imanfs %volumesdir%                                                  1&gt;&gt;%logdir%\volumes1.log  2&gt;&gt;%logdir%\volumes1.er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grant -r -clear -usepriv -dirsonly MyDomain\srv_imanfs:RWXD Jeder:RX %volumesdir%            1&gt;&gt;%logdir%\volumes2.log  2&gt;&gt;%logdir%\volumes2.er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grant -r -noprop -autoprotect -clear -usepriv -filesonly MyDomain\srv_imanfs:R %volumesdir%  1&gt;&gt;%logdir%\volumes3.log  2&gt;&gt;%logdir%\volumes3.er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f /i "%WERK%" EQU "F" GOTO :novolf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t volumesdir=e:\volumes\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etowner -r MyDomain\srv_imanfs %volumesdir%                                                  1&gt;&gt;%logdir%\volumes4.log  2&gt;&gt;%logdir%\volumes4.er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grant -r -clear -usepriv -dirsonly MyDomain\srv_imanfs:RWXD Jeder:RX %volumesdir%            1&gt;&gt;%logdir%\volumes5.log  2&gt;&gt;%logdir%\volumes5.er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igrant -r -noprop -autoprotect -clear -usepriv -filesonly MyDomain\srv_imanfs:R %volumesdir%  1&gt;&gt;%logdir%\volumes6.log  2&gt;&gt;%logdir%\volumes6.er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:novolf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findstr errors %logdir%\volumes*.log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echo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type %logdir%\volumes*.er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echo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paus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goto agai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463C6-F1F6-49A9-BAED-DE664BC266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4945F-103C-4DA5-8409-449CD254D0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2435B-2C0A-4841-96C4-45DC2ED9A8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F0D9D-C7BA-40C9-BC91-C10153CAAE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21716-1D16-47F2-ACD2-12ABC968FA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7A9FC-96CD-454F-97D4-0C59C00A1E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FEB6D-B4BE-4DA9-8236-0352DAD461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D01BA-0E8F-44DD-92E3-EF58D38364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5000" y="396720"/>
            <a:ext cx="765648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7AC16-3F63-4778-9A2F-44F1C0644E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FF0E8-C199-4EA1-B281-510D97FE0D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1D624-8CB1-4343-B713-87AF775A15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60CD9-C19D-44EF-B39B-D488689667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3240" y="1440"/>
            <a:ext cx="9889920" cy="86868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74478CA2-B1F2-48DB-8631-133D50164CA7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©J.Fes   PLMJobMangerV2 – Tce Mitschriften Dokumentation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J.Fes. Stand: 05.05.2011   gedruckt am: </a:t>
            </a:r>
            <a:fld id="{7DD91C8D-150A-4E6F-9150-14324972D1C9}" type="datetime">
              <a:rPr b="0" lang="de-DE" sz="9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61" descr="JF-Vorlagen-Briefkopf-JobManager_V00"/>
          <p:cNvPicPr/>
          <p:nvPr/>
        </p:nvPicPr>
        <p:blipFill>
          <a:blip r:embed="rId9"/>
          <a:stretch/>
        </p:blipFill>
        <p:spPr>
          <a:xfrm>
            <a:off x="5778360" y="63360"/>
            <a:ext cx="3988080" cy="60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liennummernplatzhalter 2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262CD4F0-939E-4BE8-89DB-CCF9B8A08EBF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453360" y="5877000"/>
            <a:ext cx="2328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5240" y="3897000"/>
            <a:ext cx="7657920" cy="2197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5700" spc="-1" strike="noStrike">
                <a:solidFill>
                  <a:srgbClr val="000000"/>
                </a:solidFill>
                <a:latin typeface="Arial"/>
              </a:rPr>
              <a:t>PlmJobManagerV2 </a:t>
            </a:r>
            <a:br>
              <a:rPr sz="5700"/>
            </a:br>
            <a:r>
              <a:rPr b="1" lang="de-DE" sz="3800" spc="-1" strike="noStrike">
                <a:solidFill>
                  <a:srgbClr val="000000"/>
                </a:solidFill>
                <a:latin typeface="Arial"/>
              </a:rPr>
              <a:t>TCE -Dokumenta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6453360" y="5877000"/>
            <a:ext cx="2328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8" descr="MyApplLogo"/>
          <p:cNvPicPr/>
          <p:nvPr/>
        </p:nvPicPr>
        <p:blipFill>
          <a:blip r:embed="rId1"/>
          <a:stretch/>
        </p:blipFill>
        <p:spPr>
          <a:xfrm>
            <a:off x="2631960" y="1006560"/>
            <a:ext cx="3821400" cy="26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B5F240D6-95A2-440C-B7FF-DFB7101C06A6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Liste (noch nicht in Verwendun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Weiter Info Liste …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50840" y="1268280"/>
          <a:ext cx="9647280" cy="2987640"/>
        </p:xfrm>
        <a:graphic>
          <a:graphicData uri="http://schemas.openxmlformats.org/drawingml/2006/table">
            <a:tbl>
              <a:tblPr/>
              <a:tblGrid>
                <a:gridCol w="301680"/>
                <a:gridCol w="1368360"/>
                <a:gridCol w="3203640"/>
                <a:gridCol w="4773600"/>
              </a:tblGrid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rameter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eschreibung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eispiel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3883D865-DFAF-40C5-A1CD-A7F590BE1A9E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Notiz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de-DE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Inhaltsverzeichn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oliennummernplatzhalter 2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4FFD0C7B-336A-432D-A031-B1A6C2595EC3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feld 3"/>
          <p:cNvSpPr/>
          <p:nvPr/>
        </p:nvSpPr>
        <p:spPr>
          <a:xfrm>
            <a:off x="290520" y="1260360"/>
            <a:ext cx="920736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eckIn geht nich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ite: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CE Status auf Objekte setz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ite: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rechtigungen auf den Volume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ite: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 Versionen suche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ite: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cc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ite: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ypass Teamcenter site preference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ite: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667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iste (noch nicht in Verwendung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iten: 9-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CheckIn geht nic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Bypass Regel anpassen (neu 5.5.2011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B331AFC7-0C42-48AE-9673-07DEF58F392D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feld 4"/>
          <p:cNvSpPr/>
          <p:nvPr/>
        </p:nvSpPr>
        <p:spPr>
          <a:xfrm>
            <a:off x="307800" y="1295280"/>
            <a:ext cx="896652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heckIn nicht möglich obwohl DBA und Bypass Rechte</a:t>
            </a:r>
            <a:br>
              <a:rPr sz="1000"/>
            </a:b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IR 17221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bhilfe: Edit ACL -&gt; Has Bypass(true) Rege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C:\Users\Jopp\AppData\Local\Microsoft\Windows\Temporary Internet Files\Content.Outlook\KDPQL63X\CICO_002.jpg"/>
          <p:cNvPicPr/>
          <p:nvPr/>
        </p:nvPicPr>
        <p:blipFill>
          <a:blip r:embed="rId2"/>
          <a:srcRect l="0" t="0" r="0" b="50004"/>
          <a:stretch/>
        </p:blipFill>
        <p:spPr>
          <a:xfrm>
            <a:off x="380880" y="2090880"/>
            <a:ext cx="9072720" cy="3066840"/>
          </a:xfrm>
          <a:prstGeom prst="rect">
            <a:avLst/>
          </a:prstGeom>
          <a:ln w="0">
            <a:noFill/>
          </a:ln>
        </p:spPr>
      </p:pic>
      <p:sp>
        <p:nvSpPr>
          <p:cNvPr id="63" name="Ellipse 5"/>
          <p:cNvSpPr/>
          <p:nvPr/>
        </p:nvSpPr>
        <p:spPr>
          <a:xfrm>
            <a:off x="8623440" y="3564000"/>
            <a:ext cx="830160" cy="85860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Gerade Verbindung mit Pfeil 8"/>
          <p:cNvCxnSpPr/>
          <p:nvPr/>
        </p:nvCxnSpPr>
        <p:spPr>
          <a:xfrm>
            <a:off x="3008160" y="1988640"/>
            <a:ext cx="5509080" cy="1801080"/>
          </a:xfrm>
          <a:prstGeom prst="straightConnector1">
            <a:avLst/>
          </a:prstGeom>
          <a:ln w="25560">
            <a:solidFill>
              <a:srgbClr val="ff0000"/>
            </a:solidFill>
            <a:prstDash val="dash"/>
            <a:miter/>
            <a:tailEnd len="med" type="triangle" w="med"/>
          </a:ln>
        </p:spPr>
      </p:cxn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E66FDEEA-1E04-43A3-9636-8A9DA04B69C8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2" descr=""/>
          <p:cNvPicPr/>
          <p:nvPr/>
        </p:nvPicPr>
        <p:blipFill>
          <a:blip r:embed="rId1"/>
          <a:stretch/>
        </p:blipFill>
        <p:spPr>
          <a:xfrm>
            <a:off x="6332400" y="2590920"/>
            <a:ext cx="2009880" cy="37544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TCE Status auf Objekte setz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Status setzen oder entferne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416880" y="1487520"/>
            <a:ext cx="6351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tatus setzen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. Tce Prompt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2. release_man -u=infodba -p=infodba -g=dba -status=MyNewStatus -folder=ObjectsStatus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tatus entfernen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. Tce Prompt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2. release_man -u=infodba -p=infodba -g=dba -unrelease -status=MyNewStatus -folder=ObjectsStatusUnRele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"/>
          <p:cNvSpPr/>
          <p:nvPr/>
        </p:nvSpPr>
        <p:spPr>
          <a:xfrm>
            <a:off x="5673600" y="2529000"/>
            <a:ext cx="1548000" cy="306072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7"/>
          <p:cNvSpPr/>
          <p:nvPr/>
        </p:nvSpPr>
        <p:spPr>
          <a:xfrm>
            <a:off x="4952880" y="2023920"/>
            <a:ext cx="2268720" cy="363708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8" descr=""/>
          <p:cNvPicPr/>
          <p:nvPr/>
        </p:nvPicPr>
        <p:blipFill>
          <a:blip r:embed="rId3"/>
          <a:stretch/>
        </p:blipFill>
        <p:spPr>
          <a:xfrm>
            <a:off x="415800" y="2889360"/>
            <a:ext cx="4025880" cy="3259080"/>
          </a:xfrm>
          <a:prstGeom prst="rect">
            <a:avLst/>
          </a:prstGeom>
          <a:ln w="0">
            <a:noFill/>
          </a:ln>
        </p:spPr>
      </p:pic>
      <p:sp>
        <p:nvSpPr>
          <p:cNvPr id="73" name="Oval 9"/>
          <p:cNvSpPr/>
          <p:nvPr/>
        </p:nvSpPr>
        <p:spPr>
          <a:xfrm>
            <a:off x="1136520" y="3176640"/>
            <a:ext cx="2521080" cy="1368360"/>
          </a:xfrm>
          <a:prstGeom prst="ellipse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2360520" y="3933720"/>
            <a:ext cx="900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legen eines Stat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1"/>
          <p:cNvSpPr/>
          <p:nvPr/>
        </p:nvSpPr>
        <p:spPr>
          <a:xfrm flipV="1">
            <a:off x="857160" y="3933360"/>
            <a:ext cx="279360" cy="19044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307800" y="6300720"/>
            <a:ext cx="469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olie mit Unterstützung von Alexander Anderko (KBA) erstell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8C976287-2AF3-4D4B-A411-C17F97F71BE2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Berechtigungen auf den Volum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0">
              <a:spcBef>
                <a:spcPts val="624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Dokumentation der erforderlichen Berechtigungen auf den Volumes: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322200" y="1268280"/>
            <a:ext cx="9426600" cy="40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. alle Ordner und Files müssen dem imanFs-Dienst-User gehören (Besitz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xample: setowner -r MyDomainName\srv_imanfs %volumesdir%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lternative:  setfile.exe /REC  /Owner=MyDomainName\srv_imanfs %volumesdir%\*.*  ! Achtung Tool prüfen !! unbedingt ..\*.* angeben !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2. alle Verzeichnisse müssen die berechtigungen: imanFs-Dienst-User RWXD  Jeder:RX aufweis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xample: igrant -r -clear -usepriv -dirsonly MyDomainName\srv_imanfs:RWXD Jeder:RX %volumesdir%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3. auf alle Files muss der imanFs-Dienst-User:R (Read) Access hab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xample: igrant -r -noprop -autoprotect -clear -usepriv -filesonly MyDomainName\srv_imanfs:R %volumesdir%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Quellen der Tool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igrant      --&gt; http://soci.hu/svn/WebHosting/trunk/ntsec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etowner    --&gt; geht nur für 1 file !! http://www.certification-mcse.com/download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etfile.exe --&gt; http://peter.verhas.com/progs/c/nt/setfil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erhalten von KBA Herrn Dietmar Eberth am 19.04.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597390B1-29E6-4AE0-83F7-375F5FDC066A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Part Versionen such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Beschreibung wie am Einfachsten der Zugriff auf unterschiedliche Versionen von Partfiles zugegriffen werden kann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369720" y="1484280"/>
            <a:ext cx="5040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Umgebungsvariable setzen: (TCE neu start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WhereReferencePOMPref=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2"/>
          <a:stretch/>
        </p:blipFill>
        <p:spPr>
          <a:xfrm>
            <a:off x="369720" y="2290680"/>
            <a:ext cx="3143520" cy="22766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"/>
          <p:cNvSpPr/>
          <p:nvPr/>
        </p:nvSpPr>
        <p:spPr>
          <a:xfrm>
            <a:off x="369720" y="2100240"/>
            <a:ext cx="410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ataset auswählen und Verwendungsnachweis öff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7"/>
          <p:cNvSpPr/>
          <p:nvPr/>
        </p:nvSpPr>
        <p:spPr>
          <a:xfrm>
            <a:off x="69840" y="1484280"/>
            <a:ext cx="254160" cy="2541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8"/>
          <p:cNvSpPr/>
          <p:nvPr/>
        </p:nvSpPr>
        <p:spPr>
          <a:xfrm>
            <a:off x="69840" y="2036880"/>
            <a:ext cx="254160" cy="2538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9"/>
          <p:cNvSpPr/>
          <p:nvPr/>
        </p:nvSpPr>
        <p:spPr>
          <a:xfrm>
            <a:off x="69840" y="2565360"/>
            <a:ext cx="254160" cy="2541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0"/>
          <p:cNvSpPr/>
          <p:nvPr/>
        </p:nvSpPr>
        <p:spPr>
          <a:xfrm>
            <a:off x="2135160" y="3789360"/>
            <a:ext cx="254160" cy="2541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2540160" y="3789360"/>
            <a:ext cx="410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nker auswählen und Eigenschaften via R-Maus öff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2" descr=""/>
          <p:cNvPicPr/>
          <p:nvPr/>
        </p:nvPicPr>
        <p:blipFill>
          <a:blip r:embed="rId3"/>
          <a:stretch/>
        </p:blipFill>
        <p:spPr>
          <a:xfrm>
            <a:off x="2792520" y="4329000"/>
            <a:ext cx="1971720" cy="1533600"/>
          </a:xfrm>
          <a:prstGeom prst="rect">
            <a:avLst/>
          </a:prstGeom>
          <a:ln w="0">
            <a:noFill/>
          </a:ln>
        </p:spPr>
      </p:pic>
      <p:sp>
        <p:nvSpPr>
          <p:cNvPr id="93" name="Line 13"/>
          <p:cNvSpPr/>
          <p:nvPr/>
        </p:nvSpPr>
        <p:spPr>
          <a:xfrm>
            <a:off x="2540160" y="4184640"/>
            <a:ext cx="306360" cy="67320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5"/>
          <p:cNvSpPr/>
          <p:nvPr/>
        </p:nvSpPr>
        <p:spPr>
          <a:xfrm>
            <a:off x="5815080" y="3371760"/>
            <a:ext cx="253800" cy="2541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6" descr=""/>
          <p:cNvPicPr/>
          <p:nvPr/>
        </p:nvPicPr>
        <p:blipFill>
          <a:blip r:embed="rId4"/>
          <a:stretch/>
        </p:blipFill>
        <p:spPr>
          <a:xfrm>
            <a:off x="5942160" y="3625920"/>
            <a:ext cx="3046320" cy="24620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7"/>
          <p:cNvSpPr/>
          <p:nvPr/>
        </p:nvSpPr>
        <p:spPr>
          <a:xfrm>
            <a:off x="6248520" y="3371760"/>
            <a:ext cx="410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Im Eigenschaften Dialog Objekte selektieren Kopier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8" descr=""/>
          <p:cNvPicPr/>
          <p:nvPr/>
        </p:nvPicPr>
        <p:blipFill>
          <a:blip r:embed="rId5"/>
          <a:stretch/>
        </p:blipFill>
        <p:spPr>
          <a:xfrm>
            <a:off x="8337600" y="5462640"/>
            <a:ext cx="1000080" cy="799920"/>
          </a:xfrm>
          <a:prstGeom prst="rect">
            <a:avLst/>
          </a:prstGeom>
          <a:ln w="0">
            <a:noFill/>
          </a:ln>
        </p:spPr>
      </p:pic>
      <p:sp>
        <p:nvSpPr>
          <p:cNvPr id="98" name="Oval 19"/>
          <p:cNvSpPr/>
          <p:nvPr/>
        </p:nvSpPr>
        <p:spPr>
          <a:xfrm>
            <a:off x="8337600" y="5049720"/>
            <a:ext cx="253800" cy="254160"/>
          </a:xfrm>
          <a:prstGeom prst="ellipse">
            <a:avLst/>
          </a:prstGeom>
          <a:solidFill>
            <a:srgbClr val="ffff00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0"/>
          <p:cNvSpPr/>
          <p:nvPr/>
        </p:nvSpPr>
        <p:spPr>
          <a:xfrm>
            <a:off x="8680320" y="4923000"/>
            <a:ext cx="131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bschließend diesen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in einen Ordner kopiere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1"/>
          <p:cNvSpPr/>
          <p:nvPr/>
        </p:nvSpPr>
        <p:spPr>
          <a:xfrm>
            <a:off x="307800" y="6300720"/>
            <a:ext cx="469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olie am 12.11.09 mit Unterstützung von Alexander Anderko (KBA) erstell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22"/>
          <p:cNvSpPr/>
          <p:nvPr/>
        </p:nvSpPr>
        <p:spPr>
          <a:xfrm>
            <a:off x="324000" y="2565360"/>
            <a:ext cx="1641240" cy="25416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71D84B29-A765-4CC8-84A0-8A111FF178FB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fc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fcc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5" descr="image001"/>
          <p:cNvPicPr/>
          <p:nvPr/>
        </p:nvPicPr>
        <p:blipFill>
          <a:blip r:embed="rId2"/>
          <a:stretch/>
        </p:blipFill>
        <p:spPr>
          <a:xfrm>
            <a:off x="3189240" y="2565360"/>
            <a:ext cx="6316560" cy="390384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6"/>
          <p:cNvSpPr/>
          <p:nvPr/>
        </p:nvSpPr>
        <p:spPr>
          <a:xfrm>
            <a:off x="307800" y="1189800"/>
            <a:ext cx="3630960" cy="13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CC purgen wenn erforderli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rem fcc purgen 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rem call %fms_home%\bin\fccstat.exe –pur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oder FCC limitieren mi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CC-Einstellunge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okale Einstellungen à Kommentare entfernen à Override = fal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E6C8667F-910A-4759-809F-BC22A4C5CD48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Bypass Teamcenter site prefere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How to bypass Teamcenter site preferences, e.g. for loading customizations: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166680"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307800" y="1375200"/>
            <a:ext cx="7483680" cy="40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1.      Set the following environment variabl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SET TC_PREFERENCES_OVERRIDE_FROM_FILE=TRU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SET TC_PREFERENCES_OVERLAY_FILE=&lt;&lt;path&gt;&gt;\PREF_BYPASS.xm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2.      Create the preference overlay file &lt;&lt;path&gt;&gt;\PREF_BYPASS.xm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Ex. Which overrides the customizations to load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?xml version="1.0" encoding="ISO-8859-1"?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preferences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category name="General"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category_description&gt;Teamcenter Preferences&lt;/category_description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preference name="TC_customization_libraries" type="String" array="true" disabled="false"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preference_description&gt;Test&lt;/preference_description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context name="Teamcenter"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value&gt;&lt;/valu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/context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/preferenc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/category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/preferences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Note that you can add whatever site preference in this file as need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The format etc. can be taken from Teamcenter by exporting preferences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either using the Rich Client (Edit à Options…) or by using the preferences_manag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command line utilit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From: Viersen, Jouke &lt;jouke.viersen@siemens.com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920"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Date: 9 Nov 20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FFB29E2A-4648-4A90-907A-A18FA7279340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Nx Standard Template importier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New 31.10.2011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166680"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415800" y="1652040"/>
            <a:ext cx="925380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3520" indent="-228600">
              <a:spcAft>
                <a:spcPts val="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art TC Sh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520" indent="-228600">
              <a:spcAft>
                <a:spcPts val="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D %UGII_BASE_DIR%\templates\s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520" indent="-228600">
              <a:spcAft>
                <a:spcPts val="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cin_template_setup -u=infodba -p=infodba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chtig tcin_template_setup  ohne angabe von „.bat“ anstar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520" indent="-228600">
              <a:spcAft>
                <a:spcPts val="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520" indent="-228600">
              <a:spcAft>
                <a:spcPts val="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ispiel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D „D:\ugs\nx75\UGII\templates\sample“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cin_template_setup -u=infodba -p=infod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520" indent="-228600">
              <a:spcAft>
                <a:spcPts val="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1-10-31T12:50:48Z</dcterms:modified>
  <cp:revision>101</cp:revision>
  <dc:subject/>
  <dc:title>PLMJobManagerV2</dc:title>
</cp:coreProperties>
</file>