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C8148AF-6D83-47A3-9447-0EC550C824C9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2_A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A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3_Ap_McTryR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545C953-D5C8-43C2-B1EF-CD71FA2DCBCC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5B052-4363-4605-937E-A3AD421355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1D161-0B4D-4ACD-BDC1-995D7F817D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42365-52DF-40B3-A61E-65677FDD0E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C1821-9DAF-4FB8-9342-6284AC95A0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FF861-580E-46A3-99FC-9B4B01EC6B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C2148-8D9C-428D-975E-E656E6FD90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4F2B4-F5AB-474A-B81C-5537BC2BBB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B76F9-0C59-440F-9F79-B4F4564D07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863424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51B50-6EA3-45D9-A345-6418EE5BFA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9BD44-4931-4453-90C7-B82D7F5490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29FFE-9687-40D2-97F9-C3251AAC36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44D0E-28B0-4304-89B0-3C377A1CD0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72DF3956-469E-47E0-A2F1-6274FDABF50E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135000" y="6593040"/>
            <a:ext cx="863424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_etup_Nx75.ppt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.Fes. Stand: 18.08.2010      gedruckt am: </a:t>
            </a:r>
            <a:fld id="{96DD55E8-F587-466F-8B40-9D599C1B1C5D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9772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64" descr="JF-Vorlagen-Briefkopf-JobManager_V00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D21236F2-3983-4D24-BF3F-47A52A03176F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5240" y="3897000"/>
            <a:ext cx="7657920" cy="2197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5700" spc="-1" strike="noStrike">
                <a:solidFill>
                  <a:srgbClr val="000000"/>
                </a:solidFill>
                <a:latin typeface="Arial"/>
              </a:rPr>
              <a:t>PLMJobManagerV2</a:t>
            </a:r>
            <a:r>
              <a:rPr b="1" lang="de-DE" sz="57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7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RefileNx75 – Sett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MyApplLogo"/>
          <p:cNvPicPr/>
          <p:nvPr/>
        </p:nvPicPr>
        <p:blipFill>
          <a:blip r:embed="rId1"/>
          <a:stretch/>
        </p:blipFill>
        <p:spPr>
          <a:xfrm>
            <a:off x="2720880" y="1197000"/>
            <a:ext cx="417672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X7.5 Settin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Settings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344520" y="1227240"/>
            <a:ext cx="9253440" cy="2089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3"/>
          <a:stretch/>
        </p:blipFill>
        <p:spPr>
          <a:xfrm>
            <a:off x="358920" y="3429000"/>
            <a:ext cx="9165960" cy="302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0-10-29T18:50:33Z</dcterms:modified>
  <cp:revision>175</cp:revision>
  <dc:subject/>
  <dc:title>Refile Manager V1.0</dc:title>
</cp:coreProperties>
</file>