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445B8B6-358F-4C64-9F3B-0E92DB25BE9E}"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C989B16-A94C-4BAC-98CB-89E6A61904DB}"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C8B7805-B44A-43DC-97DC-36156EEF857A}"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33D8ED71-F722-4FAC-93B2-13257D9910D3}"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24EF3C8-7B92-473B-BEAE-1540620C0510}"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FF44D8B-362E-4C8E-BDAB-1B04D0973308}"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C3618C3-F70F-4B39-98E2-1CAC066A8869}"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7E3F325-47EB-461B-B112-522ACCC069E3}"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694F46D5-B84C-4E33-A802-090297F2C6B1}"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245CACBB-8BD2-4C24-A091-4F983F7ED413}" type="datetime">
              <a:rPr b="0" lang="de-DE" sz="1000" spc="-1" strike="noStrike">
                <a:solidFill>
                  <a:srgbClr val="000000"/>
                </a:solidFill>
                <a:latin typeface="Arial Narrow"/>
              </a:rPr>
              <a:t>30.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186860AE-0E01-4A89-A33E-05401BC510DF}"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