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2A1AAC-F8FC-455E-A2DE-954574D95E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E27308-E868-4D98-9A39-9DBB7B2D01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D7F42F02-EF54-4DD6-9802-29DF4C6AD6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BB75EC3D-6FF5-40F0-A4AE-EF2BA24A81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CB0352F9-48E2-4A45-8F42-B7FED7530F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2613DBD7-ABE2-4A0D-ABA3-1A5A197641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E0C3DA32-54A7-4536-9587-97A355F085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AE89DD00-C5E5-4B52-BCC9-EA8F9142B3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294A6EB9-5526-4777-A619-98B4001D05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BC2AA8B7-0432-4FF1-87A4-89721CBA37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535B7A72-4765-4866-95C3-0C0352E6F9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F2B3217C-9125-4D97-B10D-DF41626B8E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F8BEF2CC-BD30-4C77-AB44-8DA91C4703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CCA09ED1-F723-473E-B9CA-132EF9C41DCA}"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57581D33-75FA-4BB6-8852-3631332B49E9}" type="datetime">
              <a:rPr b="0" lang="de-DE" sz="900" spc="-1" strike="noStrike">
                <a:solidFill>
                  <a:srgbClr val="000000"/>
                </a:solidFill>
                <a:latin typeface="Arial"/>
              </a:rPr>
              <a:t>30.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60F7E920-54B5-419A-98D0-8BB2ACCF09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D01BE-3129-452A-A279-3B47118892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AB3EA09-CD8C-41E7-B3F6-5AA8D74DFC89}"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CAC51F2A-F30F-44F7-BB91-2B184B3224A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72BB4-7844-4E29-A8DC-2A1974163A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1F2C9-E634-4E3F-B5C2-A5F92B0D1F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9890A7AF-F86B-4ED0-AB24-B100A4C134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17C9C30A-FB52-4B7E-8E29-9BFFCF01C3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26042086-8BBF-47D6-9C39-9A1EBEB981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28870-A8BB-42F8-8820-0C96BE242E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566B12C2-4B1D-402C-A2DE-770A8E9A14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