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EBC8A80-1ED6-4B4D-9534-135DB32F2DB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AC2D77C-001A-4C9D-BE39-1765577A3D3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file                27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SERVER              28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2A3D-923C-4DEA-A8A8-CEC6E414A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5B1C-9B0F-4F2A-AE92-62734C385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DAA6-7052-4B17-88B5-9EA466BC1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3CE2-46E1-42CE-90E1-CC14E31404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98F7-7FD0-42AA-8722-711B84C3D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7F8D-A67B-4D74-8726-6A1372905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27B9-4C2F-45E2-BAC6-3F6910598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2D58-9463-4034-8B46-3E04CA426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FAAF-4AEE-4955-9710-32EA07B4C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B261-2BFA-461D-A1D6-ADBF8A2B4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A36C-7533-4A6F-8243-8339FDCFB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388B-9CA1-44E1-BA6E-99A50C178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D2FC476-C3C3-416E-92C2-614A4B35C67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YYYY#   gedruckt am: </a:t>
            </a:r>
            <a:fld id="{EC56FB84-64E3-4E0C-B595-DD332D8B450B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3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osef.Feuerstein@PLMJobManager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7BABA20-8238-408E-A89D-88BE0D149C7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1C603BC-9CCF-44A8-BD47-C9BA9C47A6C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51"/>
          <p:cNvSpPr/>
          <p:nvPr/>
        </p:nvSpPr>
        <p:spPr>
          <a:xfrm>
            <a:off x="285840" y="1413000"/>
            <a:ext cx="946296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\\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RACLE_SID=plm2 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AN_DATA=u:\PLM2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and Prompt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UGS_SHR_DIR%\start_apps\windows\start_nx6.bat de tceng_prompt PLM2 2005s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0570A5C-48A3-4BEC-BD7E-7F37560637F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4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3842D9F-3DAD-4829-8E9F-02A10184FDA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file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73076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Liste der Parame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2680" y="1357200"/>
          <a:ext cx="9504360" cy="3165480"/>
        </p:xfrm>
        <a:graphic>
          <a:graphicData uri="http://schemas.openxmlformats.org/drawingml/2006/table">
            <a:tbl>
              <a:tblPr/>
              <a:tblGrid>
                <a:gridCol w="360360"/>
                <a:gridCol w="611280"/>
                <a:gridCol w="2800440"/>
                <a:gridCol w="583920"/>
                <a:gridCol w="1081080"/>
                <a:gridCol w="503280"/>
                <a:gridCol w="1836720"/>
                <a:gridCol w="395280"/>
                <a:gridCol w="1332000"/>
              </a:tblGrid>
              <a:tr h="3751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SP/A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F 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Op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non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bei einem Single Part –y gesetzt so wird das Master nur 1xmal gespei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master/Test000185_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specification/Test000185_1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ein Assembly mit –y refiled dann wird das Master 2xmal gespeich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he Teile Histo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055B3BA-89E4-4671-8C20-8D4063787BE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blauf Produktiv Umstel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rbereitung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44520" y="1484280"/>
            <a:ext cx="770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Umziehen der DB auf den neuen Server VAF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Oracle TCE DB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lume Daten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stimmung mit Baumgarner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Zeitliche einschätz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fo von J.Feuerstein: TCE/NX System sollte spätestens bis 14:00 Uhr verfügbar sein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ätzung der Refile Zeiten: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Single Parts bei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Assemblys mit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 </a:t>
            </a:r>
            <a:br>
              <a:rPr sz="1000"/>
            </a:b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ttenplatz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lattenplatz für Oracle RedoLogfiles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Plattenplatz prüfen min 10 GB frei für diesen Zeitrau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lattenplatz für Volume Daten bitte +1/3 mehr frei gegenüber dem Aktuellen Beda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en für den Produktiv Re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von zu prüfenden Baugruppen erstellen bitte eintragen in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\\MyServer\ugsshare\JobManagerV2\11-Documentation.Custom\NXRefile\NX-Refile-Partlisten.x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plante Ter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Prüfung der Ergebnisse am Testsyste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Fr. 23 + Sa 24.10</a:t>
            </a:r>
            <a:br>
              <a:rPr sz="1000"/>
            </a:b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i Änderung der Termine bitte J.Feuerstein so früh wie möglich informieren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bil: 0176-2216-1006 </a:t>
            </a:r>
            <a:r>
              <a:rPr b="0" lang="de-DE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Josef.Feuerstein@PLMJobManager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B166DE3-6429-452F-B530-A731F4981C5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B670820-92DA-4E12-86CE-20DE08FDD4E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03-11T12:23:20Z</dcterms:modified>
  <cp:revision>84</cp:revision>
  <dc:subject/>
  <dc:title>PLMJobManagerV2 Docu Custome</dc:title>
</cp:coreProperties>
</file>