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104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00520" y="-36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-360" y="928332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00520" y="928332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5D318927-43FE-4938-8E50-ED01427D39C8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1_SpOwn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1_SpRepl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2_ApOwn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1_ApRepl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3_Ap_McTryR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oliennummernplatzhalter 3"/>
          <p:cNvSpPr/>
          <p:nvPr/>
        </p:nvSpPr>
        <p:spPr>
          <a:xfrm>
            <a:off x="3800520" y="9283680"/>
            <a:ext cx="2908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564B0F91-430E-4744-84B3-7B3BD53895F2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9FD91-27A5-4CA1-80B9-B489532502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3CEE2-E555-4646-9587-F3C9A04603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C7A8C-CE92-4551-85A3-8945B7CBDA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41502-2A2B-4867-8729-02F2C11507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BCEA0-C849-46AB-9CFC-491BC0F58A7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3EFE7-E1B7-428A-8BD6-7B34F51B35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1CE00-21C5-4B71-96F6-188E8B14CD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3AEBD-BA68-4DB4-9C63-6EA8A18B5E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5000" y="396720"/>
            <a:ext cx="863424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D3933-57C2-402E-9CDA-B2B98EC605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79CB5-6C49-4AA2-8E3E-1AE9EC7136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92437-561C-4474-8370-93C71E2680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FF469-C816-4946-B184-1DD30BEC7C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>
            <a:off x="3240" y="1440"/>
            <a:ext cx="9889920" cy="86868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B9E6E6A8-9F28-4ADB-BD63-DC71D29102A1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33"/>
          <p:cNvSpPr/>
          <p:nvPr/>
        </p:nvSpPr>
        <p:spPr>
          <a:xfrm>
            <a:off x="135000" y="6593040"/>
            <a:ext cx="863424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©J.Fes   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_etup_Nx75.ppt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J.Fes. Stand: 18.08.2010      gedruckt am: </a:t>
            </a:r>
            <a:fld id="{0D3F9B48-0D20-47BB-92EC-DD6F8E116E81}" type="datetime">
              <a:rPr b="0" lang="de-DE" sz="9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4"/>
          <p:cNvSpPr/>
          <p:nvPr/>
        </p:nvSpPr>
        <p:spPr>
          <a:xfrm>
            <a:off x="0" y="659772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64" descr="JF-Vorlagen-Briefkopf-JobManager_V00"/>
          <p:cNvPicPr/>
          <p:nvPr/>
        </p:nvPicPr>
        <p:blipFill>
          <a:blip r:embed="rId9"/>
          <a:stretch/>
        </p:blipFill>
        <p:spPr>
          <a:xfrm>
            <a:off x="5200560" y="20520"/>
            <a:ext cx="46688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liennummernplatzhalter 2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B530318A-79D7-4E9D-81F9-E076D90F05C4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6453360" y="5877000"/>
            <a:ext cx="23288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rstellt v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Josef Feuers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5240" y="3897000"/>
            <a:ext cx="7657920" cy="2197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5700" spc="-1" strike="noStrike">
                <a:solidFill>
                  <a:srgbClr val="000000"/>
                </a:solidFill>
                <a:latin typeface="Arial"/>
              </a:rPr>
              <a:t>PLMJobManagerV2</a:t>
            </a:r>
            <a:r>
              <a:rPr b="1" lang="de-DE" sz="57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700"/>
            </a:br>
            <a:r>
              <a:rPr b="1" lang="de-DE" sz="3800" spc="-1" strike="noStrike">
                <a:solidFill>
                  <a:srgbClr val="000000"/>
                </a:solidFill>
                <a:latin typeface="Arial"/>
              </a:rPr>
              <a:t>RefileNx75 – Sett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6"/>
          <p:cNvSpPr/>
          <p:nvPr/>
        </p:nvSpPr>
        <p:spPr>
          <a:xfrm>
            <a:off x="6453360" y="5877000"/>
            <a:ext cx="23288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rstellt v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Josef Feuers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8" descr="MyApplLogo"/>
          <p:cNvPicPr/>
          <p:nvPr/>
        </p:nvPicPr>
        <p:blipFill>
          <a:blip r:embed="rId1"/>
          <a:stretch/>
        </p:blipFill>
        <p:spPr>
          <a:xfrm>
            <a:off x="2720880" y="1197000"/>
            <a:ext cx="4176720" cy="28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NX7.5 Setting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Settings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2"/>
          <a:stretch/>
        </p:blipFill>
        <p:spPr>
          <a:xfrm>
            <a:off x="344520" y="1227240"/>
            <a:ext cx="9253440" cy="2089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"/>
          <p:cNvPicPr/>
          <p:nvPr/>
        </p:nvPicPr>
        <p:blipFill>
          <a:blip r:embed="rId3"/>
          <a:stretch/>
        </p:blipFill>
        <p:spPr>
          <a:xfrm>
            <a:off x="358920" y="3429000"/>
            <a:ext cx="9165960" cy="3024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9:19:42Z</dcterms:created>
  <dc:creator>Josef Feuerstein</dc:creator>
  <dc:description/>
  <dc:language>en-US</dc:language>
  <cp:lastModifiedBy>Josef Feuerstein</cp:lastModifiedBy>
  <cp:lastPrinted>2002-04-15T13:20:54Z</cp:lastPrinted>
  <dcterms:modified xsi:type="dcterms:W3CDTF">2010-10-29T18:50:33Z</dcterms:modified>
  <cp:revision>175</cp:revision>
  <dc:subject/>
  <dc:title>Refile Manager V1.0</dc:title>
</cp:coreProperties>
</file>