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575B2F5-64B4-41A2-AA77-02515602C4C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4E866BBC-5E28-4A87-AE4A-FC5101AE51F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02ED5B-5CD9-45BC-AB01-30170E6DF60F}"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AA3033FF-4950-46FC-A3C3-4A3B55944B46}"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A3C10FC-5417-4C5C-9FA3-BF9C3C5DE11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9A4B717-06FF-4548-9073-9FB2A16284C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AE6183EE-F0FC-4CCF-A48B-B430285EFF1C}"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7C2749-1D1B-4B88-80EA-692F26A8747F}"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3D2DC27-A748-40C0-A833-83B7834EACC1}"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B5B18956-5C16-4461-8E3D-9496C892767F}" type="datetime">
              <a:rPr b="0" lang="de-DE" sz="1000" spc="-1" strike="noStrike">
                <a:solidFill>
                  <a:srgbClr val="000000"/>
                </a:solidFill>
                <a:latin typeface="Arial Narrow"/>
              </a:rPr>
              <a:t>28.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8D58FDDD-D04C-4B4C-9D37-8D2E41E2BBB1}"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