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6B6DBB38-776E-4350-A7B4-16B3CA56738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EA3B05-F77A-4E38-B848-2E71753B10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8559A8B4-7B8F-43FE-9F51-4311EE8864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C4297A62-8E0A-4E01-8B32-2F47160109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9030A79F-C437-4D83-9B81-6E1A69AC3D8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10E01B0B-6B21-4632-8467-F7E72059D9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E525CC40-C5EB-4216-9383-C96537EB0C9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20D310F1-FB29-4679-AEB9-B3336736A1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29203037-A154-4549-9214-69A9C10E07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802CC609-93C2-4FBF-9C54-356CD4DCE8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24DC3D8E-703E-421E-BD53-50BA83BD39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D4FF45E9-03BF-46A1-94DA-FC29F0D74A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DB89E1B4-44D6-428E-8097-9858BC646A6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60578E40-449C-4415-BE4E-5670154E1369}"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111AE43C-924E-4742-B818-A7A4C4571862}" type="datetime">
              <a:rPr b="0" lang="de-DE" sz="900" spc="-1" strike="noStrike">
                <a:solidFill>
                  <a:srgbClr val="000000"/>
                </a:solidFill>
                <a:latin typeface="Arial"/>
              </a:rPr>
              <a:t>28.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9510D30F-2041-4E0E-A19F-3F5F9D975BE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9397AE-8C78-484D-B427-DAAACB572CA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96EA9CEA-C00D-429F-B4B1-571BC860CD45}"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E220FC5A-0691-49F6-A162-01DF706516CD}"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D35E2-7997-4BB5-A9D2-C2286E94CA3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784842-BF73-4C79-A1AA-6B1256B99E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8DF3FC2F-D265-402A-9D7D-34CAAEA040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C424090B-BEF1-4775-9054-EEC52C9CC7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45B46A5-D8FB-4B20-A99F-4506D729DB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4C995B-4A2D-419E-8AA9-862650D35F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F628498D-AA49-4A5B-820F-1B21172CC13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