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65412E3-8DC6-41C8-9A52-A9E8F7F2EA42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76C176F-C477-4341-805E-E11F3E2716A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168C-5D4F-426A-96F4-EA87A4976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E375-79E0-4783-8D3C-857A45B35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7698-7037-41B1-B038-F46A85F1F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8D2E-B2DE-4318-B471-3849D193E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18335-9DEB-4592-8D76-5EF6B32669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7ABB-0BA1-429C-8629-DE8F4BC20A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F5FF-E0A1-40A3-829D-5383E7A0C6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195B-CBDC-4872-B3CD-0A3B0927F1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1F23E-DC61-4D51-AD08-42BEC41DCB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F636-D2E6-4795-80C8-2BBC6DA94A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B776-49E3-480E-88B3-913C04CCCA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5954-C974-4309-89BD-C6E2B3F6C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4CD01-7AEC-4EA1-9B9E-134F4560C9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B6CB9-905A-4F84-9AAF-85AB1B3F09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A281C-01C8-4524-AB98-9A70657E68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877E3-27FC-4D1D-833E-5C7DE103F7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A116-FBA3-4C37-8EF2-0F3B1526AA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E9F-3D68-4EF6-90C5-29707E80DC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AA3-59CF-4672-9D8C-04D23A4AA3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222-D2F8-47E3-8CE7-771A749EC4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BF3-9CC1-441C-9A6B-2612965939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C5A-4BD2-43C7-941F-4F1B9893C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88BE-5F10-401A-9294-1CE4F23D3A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261-C9AF-45E3-B441-4C2E8BF8CE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535-C113-4CDA-AD16-329670C030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1BF-A822-4FF8-A278-F3A63BBB6F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F29-2E22-4A53-A311-08FD0C084F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6F5-60AB-404B-B3CF-72B7037E20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BD2-AEF5-4A2F-BC5A-5DD488A545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47A-4266-4C53-AB0A-B7FE6BA75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60C9-3858-4C26-AE98-3BCF8B6C9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B840-8222-4A26-9C13-AEEEECB53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7351-B7CB-42A9-B0A2-708EBDC0D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D5F1-D744-41FD-B361-14DC53953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1A14-E75F-4381-9CF9-7A19D3C6F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9809-2952-4F5F-99E4-77126BAD1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9D20B8D7-C279-4AA1-88EE-A0491484933B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A87F3FAB-297B-42CC-B144-A4D1ACDC0C6E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E9CD5D24-BFB6-4D35-A6D6-C09BC9B8CA84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6313850-ED01-40D9-821F-41299AEC81A5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76BA5580-25F0-41EC-8CAA-3E9EEA8A6592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F2CD788-3708-46CD-A2A8-BC001423DBDF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4E6C7FB-1670-4865-8C07-1CBB8EECC32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PLM Data Check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03EF9E2-29CE-4D2C-92B8-B97C47D1307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#Item# #Rev# #Date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Date# #Description#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feld 4"/>
          <p:cNvSpPr/>
          <p:nvPr/>
        </p:nvSpPr>
        <p:spPr>
          <a:xfrm>
            <a:off x="236520" y="1252440"/>
            <a:ext cx="941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rt add your Doc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49:09Z</dcterms:modified>
  <cp:revision>103</cp:revision>
  <dc:subject/>
  <dc:title>PLMJobManagerV2 Docu Custome</dc:title>
</cp:coreProperties>
</file>