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</p:sldIdLst>
  <p:sldSz cx="9907588" cy="6858000"/>
  <p:notesSz cx="6710363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67104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08440" cy="4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4"/>
          </p:nvPr>
        </p:nvSpPr>
        <p:spPr>
          <a:xfrm>
            <a:off x="3800520" y="-360"/>
            <a:ext cx="2908080" cy="4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Img"/>
          </p:nvPr>
        </p:nvSpPr>
        <p:spPr>
          <a:xfrm>
            <a:off x="243000" y="733320"/>
            <a:ext cx="5294160" cy="366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body"/>
          </p:nvPr>
        </p:nvSpPr>
        <p:spPr>
          <a:xfrm>
            <a:off x="374760" y="4642920"/>
            <a:ext cx="60768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5"/>
          </p:nvPr>
        </p:nvSpPr>
        <p:spPr>
          <a:xfrm>
            <a:off x="-360" y="9283320"/>
            <a:ext cx="2908440" cy="49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 type="sldNum" idx="6"/>
          </p:nvPr>
        </p:nvSpPr>
        <p:spPr>
          <a:xfrm>
            <a:off x="3800520" y="9283320"/>
            <a:ext cx="2908080" cy="49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de-DE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FC510580-AF25-49AE-8CAB-36D3D0FCA844}" type="slidenum"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243000" y="733320"/>
            <a:ext cx="5294160" cy="366552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374760" y="4642920"/>
            <a:ext cx="60768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Josef Feuerst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Klaus Schol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oliennummernplatzhalter 3"/>
          <p:cNvSpPr/>
          <p:nvPr/>
        </p:nvSpPr>
        <p:spPr>
          <a:xfrm>
            <a:off x="3800520" y="9283680"/>
            <a:ext cx="29080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9A2A4DAB-CD6F-4E50-A793-8C14EAF52CE2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44A2B-9D92-4BA2-A823-3329848FE9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B4E20-8F7D-4190-8D10-71936E9C76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14A33-88B0-4A4C-B3FB-514DB55048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508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3552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464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508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3552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19548-5EE1-450E-B6EB-EE2E0A7324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908DFC-3421-4DE8-8D64-4FC2731005A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EA763-0D73-44BF-9CF3-80EC8294CB1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0BF28B-C214-4015-969B-9F02AA79DAA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8E7F7C-CBAE-4416-BF42-C25D65084F1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600925-85DF-4920-80C2-8A4B1DF995E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28160" y="365040"/>
            <a:ext cx="9696600" cy="21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00C7E-C608-4E43-AFD8-08FD4B97E4B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F0BDD0-852A-4706-9268-AD2DC3F95CC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1DC42-8E9B-4F04-987C-674DE4BE0F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638507-6C18-470E-B9DB-D735C726295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77AE81-C558-4309-9C38-998E290E6F5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9CF8A4-3F05-4F2A-A6E2-E21B7D444B5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921CFB-5E8A-42AB-A9A8-A4AEBDDF694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8508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63552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464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8508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63552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238CD1-32FB-4DB7-BD40-C9CB306D81C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3157-737F-4B51-906C-01807EE2F26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DB7F-300A-4B5A-A4B8-AB4F56A362F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27AD-E3AD-48EF-ADC4-1EE57944D2C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B8D0-0E87-4D93-8160-7AF4DDFC917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02BB-A75E-45BA-B8A9-E55EFED02C7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719A5-FAA7-440B-8D2C-F4523B2B622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28160" y="365040"/>
            <a:ext cx="9696600" cy="21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DB40-B24A-4800-B6C7-F705088A5BB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83B8-6B57-45C3-96AC-209B00DDB59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AD76-0BB7-410A-A86E-50CA6F363A3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B3BD-B6E4-4CAF-9A8D-7C37CA2E5AD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B525-62C3-42F5-8C96-01E793D3562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D312-7A0B-4047-A2A4-0498E38B0C8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8508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63552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13464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8508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63552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0788-2C88-4D4B-BCF1-FF056BA43C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EC23A-BB3C-42C8-8A86-ED77C5F30E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C8D8B-C3D5-4EFB-8FC1-819C9C0E03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28160" y="365040"/>
            <a:ext cx="9696600" cy="21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F50BC-F033-4871-B88E-5636E7F6BD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63983-4879-4E62-9295-F9ED19A26F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B4959-CD28-477B-9A66-9968DA339B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C1B14-A9B7-4BBD-BC7C-412B75BA34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6.wmf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6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25.xml"/><Relationship Id="rId11" Type="http://schemas.openxmlformats.org/officeDocument/2006/relationships/slideLayout" Target="../slideLayouts/slideLayout26.xml"/><Relationship Id="rId12" Type="http://schemas.openxmlformats.org/officeDocument/2006/relationships/slideLayout" Target="../slideLayouts/slideLayout27.xml"/><Relationship Id="rId13" Type="http://schemas.openxmlformats.org/officeDocument/2006/relationships/slideLayout" Target="../slideLayouts/slideLayout28.xml"/><Relationship Id="rId14" Type="http://schemas.openxmlformats.org/officeDocument/2006/relationships/slideLayout" Target="../slideLayouts/slideLayout29.xml"/><Relationship Id="rId15" Type="http://schemas.openxmlformats.org/officeDocument/2006/relationships/slideLayout" Target="../slideLayouts/slideLayout30.xml"/><Relationship Id="rId16" Type="http://schemas.openxmlformats.org/officeDocument/2006/relationships/slideLayout" Target="../slideLayouts/slideLayout31.xml"/><Relationship Id="rId17" Type="http://schemas.openxmlformats.org/officeDocument/2006/relationships/slideLayout" Target="../slideLayouts/slideLayout32.xml"/><Relationship Id="rId18" Type="http://schemas.openxmlformats.org/officeDocument/2006/relationships/slideLayout" Target="../slideLayouts/slideLayout33.xml"/><Relationship Id="rId19" Type="http://schemas.openxmlformats.org/officeDocument/2006/relationships/slideLayout" Target="../slideLayouts/slideLayout34.xml"/><Relationship Id="rId20" Type="http://schemas.openxmlformats.org/officeDocument/2006/relationships/slideLayout" Target="../slideLayouts/slideLayout35.xml"/><Relationship Id="rId21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9"/>
          <p:cNvSpPr/>
          <p:nvPr/>
        </p:nvSpPr>
        <p:spPr>
          <a:xfrm>
            <a:off x="0" y="0"/>
            <a:ext cx="9906120" cy="868320"/>
          </a:xfrm>
          <a:prstGeom prst="rect">
            <a:avLst/>
          </a:prstGeom>
          <a:gradFill rotWithShape="0">
            <a:gsLst>
              <a:gs pos="0">
                <a:srgbClr val="dde5ff"/>
              </a:gs>
              <a:gs pos="50000">
                <a:srgbClr val="8da8ff"/>
              </a:gs>
              <a:gs pos="100000">
                <a:srgbClr val="dde5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8693280" y="6640560"/>
            <a:ext cx="1131840" cy="155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000000"/>
                </a:solidFill>
                <a:latin typeface="Eurosti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Eurostile"/>
              </a:rPr>
              <a:t>Slite </a:t>
            </a:r>
            <a:fld id="{D57C0D09-1CD3-42D8-A71D-18753DA8DEFD}" type="slidenum">
              <a:rPr b="0" lang="de-DE" sz="24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14000"/>
          </a:bodyPr>
          <a:p>
            <a:pPr marL="23040" indent="-23040">
              <a:spcBef>
                <a:spcPts val="249"/>
              </a:spcBef>
              <a:buSzPct val="102792"/>
              <a:buBlip>
                <a:blip r:embed="rId2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80640" indent="-23040">
              <a:spcBef>
                <a:spcPts val="249"/>
              </a:spcBef>
              <a:buSzPct val="100000"/>
              <a:buBlip>
                <a:blip r:embed="rId3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126360" indent="-22320">
              <a:spcBef>
                <a:spcPts val="249"/>
              </a:spcBef>
              <a:buSzPct val="100000"/>
              <a:buBlip>
                <a:blip r:embed="rId4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3" marL="172800" indent="-23040">
              <a:spcBef>
                <a:spcPts val="249"/>
              </a:spcBef>
              <a:buSzPct val="100000"/>
              <a:buBlip>
                <a:blip r:embed="rId5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4" marL="220320" indent="-24120">
              <a:spcBef>
                <a:spcPts val="249"/>
              </a:spcBef>
              <a:buSzPct val="100000"/>
              <a:buBlip>
                <a:blip r:embed="rId6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5" marL="220320" indent="-24120">
              <a:spcBef>
                <a:spcPts val="249"/>
              </a:spcBef>
              <a:buSzPct val="100000"/>
              <a:buBlip>
                <a:blip r:embed="rId7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6" marL="220320" indent="-24120">
              <a:spcBef>
                <a:spcPts val="249"/>
              </a:spcBef>
              <a:buSzPct val="100000"/>
              <a:buBlip>
                <a:blip r:embed="rId8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Text Box 33"/>
          <p:cNvSpPr/>
          <p:nvPr/>
        </p:nvSpPr>
        <p:spPr>
          <a:xfrm>
            <a:off x="414360" y="6593040"/>
            <a:ext cx="8354880" cy="2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©J.Fes  </a:t>
            </a: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PLMJobMangerV2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– 91-PLMJobManagerV2_Setup_Customer.ppt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. Last Change:#Date#   printed </a:t>
            </a:r>
            <a:fld id="{385E7052-E3BC-4753-AACF-86DD2B7BF11F}" type="datetime">
              <a:rPr b="0" lang="en-GB" sz="900" spc="-1" strike="noStrike">
                <a:solidFill>
                  <a:srgbClr val="000000"/>
                </a:solidFill>
                <a:latin typeface="Arial"/>
              </a:rPr>
              <a:t>29/07/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34"/>
          <p:cNvSpPr/>
          <p:nvPr/>
        </p:nvSpPr>
        <p:spPr>
          <a:xfrm>
            <a:off x="0" y="6566040"/>
            <a:ext cx="99061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Grafik 2" descr=""/>
          <p:cNvPicPr/>
          <p:nvPr/>
        </p:nvPicPr>
        <p:blipFill>
          <a:blip r:embed="rId9"/>
          <a:stretch/>
        </p:blipFill>
        <p:spPr>
          <a:xfrm>
            <a:off x="6357960" y="52560"/>
            <a:ext cx="3467160" cy="388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39"/>
          <p:cNvSpPr/>
          <p:nvPr/>
        </p:nvSpPr>
        <p:spPr>
          <a:xfrm>
            <a:off x="0" y="0"/>
            <a:ext cx="9906120" cy="868320"/>
          </a:xfrm>
          <a:prstGeom prst="rect">
            <a:avLst/>
          </a:prstGeom>
          <a:gradFill rotWithShape="0">
            <a:gsLst>
              <a:gs pos="0">
                <a:srgbClr val="dde5ff"/>
              </a:gs>
              <a:gs pos="50000">
                <a:srgbClr val="8da8ff"/>
              </a:gs>
              <a:gs pos="100000">
                <a:srgbClr val="dde5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33"/>
          <p:cNvSpPr/>
          <p:nvPr/>
        </p:nvSpPr>
        <p:spPr>
          <a:xfrm>
            <a:off x="414360" y="6593040"/>
            <a:ext cx="8354880" cy="2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©J.Fes  </a:t>
            </a: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PLMJobMangerV2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– 91-PLMJobManagerV2_Setup_Customer.ppt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. Last Change:#Date#   printed </a:t>
            </a:r>
            <a:fld id="{C9C4D36B-6931-47B7-A86C-0F0DD331971C}" type="datetime">
              <a:rPr b="0" lang="en-GB" sz="900" spc="-1" strike="noStrike">
                <a:solidFill>
                  <a:srgbClr val="000000"/>
                </a:solidFill>
                <a:latin typeface="Arial"/>
              </a:rPr>
              <a:t>29/07/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34"/>
          <p:cNvSpPr/>
          <p:nvPr/>
        </p:nvSpPr>
        <p:spPr>
          <a:xfrm>
            <a:off x="0" y="6566040"/>
            <a:ext cx="99061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Grafik 2" descr=""/>
          <p:cNvPicPr/>
          <p:nvPr/>
        </p:nvPicPr>
        <p:blipFill>
          <a:blip r:embed="rId2"/>
          <a:stretch/>
        </p:blipFill>
        <p:spPr>
          <a:xfrm>
            <a:off x="6357960" y="52560"/>
            <a:ext cx="3467160" cy="3888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14000"/>
          </a:bodyPr>
          <a:p>
            <a:pPr marL="23040" indent="-23040">
              <a:spcBef>
                <a:spcPts val="249"/>
              </a:spcBef>
              <a:buSzPct val="102792"/>
              <a:buBlip>
                <a:blip r:embed="rId3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80640" indent="-23040">
              <a:spcBef>
                <a:spcPts val="249"/>
              </a:spcBef>
              <a:buSzPct val="100000"/>
              <a:buBlip>
                <a:blip r:embed="rId4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126360" indent="-22320">
              <a:spcBef>
                <a:spcPts val="249"/>
              </a:spcBef>
              <a:buSzPct val="100000"/>
              <a:buBlip>
                <a:blip r:embed="rId5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3" marL="172800" indent="-23040">
              <a:spcBef>
                <a:spcPts val="249"/>
              </a:spcBef>
              <a:buSzPct val="100000"/>
              <a:buBlip>
                <a:blip r:embed="rId6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4" marL="220320" indent="-24120">
              <a:spcBef>
                <a:spcPts val="249"/>
              </a:spcBef>
              <a:buSzPct val="100000"/>
              <a:buBlip>
                <a:blip r:embed="rId7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5" marL="220320" indent="-24120">
              <a:spcBef>
                <a:spcPts val="249"/>
              </a:spcBef>
              <a:buSzPct val="100000"/>
              <a:buBlip>
                <a:blip r:embed="rId8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6" marL="220320" indent="-24120">
              <a:spcBef>
                <a:spcPts val="249"/>
              </a:spcBef>
              <a:buSzPct val="100000"/>
              <a:buBlip>
                <a:blip r:embed="rId9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2"/>
          </p:nvPr>
        </p:nvSpPr>
        <p:spPr>
          <a:xfrm>
            <a:off x="8693280" y="6640560"/>
            <a:ext cx="1131840" cy="155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000000"/>
                </a:solidFill>
                <a:latin typeface="Eurosti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281BB5AB-BDD1-4357-85C2-C667B00FD668}" type="slidenum">
              <a:rPr b="0" lang="de-DE" sz="24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39"/>
          <p:cNvSpPr/>
          <p:nvPr/>
        </p:nvSpPr>
        <p:spPr>
          <a:xfrm>
            <a:off x="0" y="0"/>
            <a:ext cx="9906120" cy="868320"/>
          </a:xfrm>
          <a:prstGeom prst="rect">
            <a:avLst/>
          </a:prstGeom>
          <a:gradFill rotWithShape="0">
            <a:gsLst>
              <a:gs pos="0">
                <a:srgbClr val="dde5ff"/>
              </a:gs>
              <a:gs pos="50000">
                <a:srgbClr val="8da8ff"/>
              </a:gs>
              <a:gs pos="100000">
                <a:srgbClr val="dde5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33"/>
          <p:cNvSpPr/>
          <p:nvPr/>
        </p:nvSpPr>
        <p:spPr>
          <a:xfrm>
            <a:off x="414360" y="6593040"/>
            <a:ext cx="8354880" cy="2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©J.Fes  </a:t>
            </a: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PLMJobMangerV2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– 91-PLMJobManagerV2_Setup_Customer.ppt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. Last Change:#Date#   printed </a:t>
            </a:r>
            <a:fld id="{189BAFFA-73B9-42A6-A7A1-48550DA7AFD0}" type="datetime">
              <a:rPr b="0" lang="en-GB" sz="900" spc="-1" strike="noStrike">
                <a:solidFill>
                  <a:srgbClr val="000000"/>
                </a:solidFill>
                <a:latin typeface="Arial"/>
              </a:rPr>
              <a:t>29/07/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34"/>
          <p:cNvSpPr/>
          <p:nvPr/>
        </p:nvSpPr>
        <p:spPr>
          <a:xfrm>
            <a:off x="0" y="6566040"/>
            <a:ext cx="99061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Grafik 2" descr=""/>
          <p:cNvPicPr/>
          <p:nvPr/>
        </p:nvPicPr>
        <p:blipFill>
          <a:blip r:embed="rId2"/>
          <a:stretch/>
        </p:blipFill>
        <p:spPr>
          <a:xfrm>
            <a:off x="6357960" y="52560"/>
            <a:ext cx="3467160" cy="3888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14000"/>
          </a:bodyPr>
          <a:p>
            <a:pPr marL="23040" indent="-23040">
              <a:spcBef>
                <a:spcPts val="249"/>
              </a:spcBef>
              <a:buSzPct val="102792"/>
              <a:buBlip>
                <a:blip r:embed="rId3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80640" indent="-23040">
              <a:spcBef>
                <a:spcPts val="249"/>
              </a:spcBef>
              <a:buSzPct val="100000"/>
              <a:buBlip>
                <a:blip r:embed="rId4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126360" indent="-22320">
              <a:spcBef>
                <a:spcPts val="249"/>
              </a:spcBef>
              <a:buSzPct val="100000"/>
              <a:buBlip>
                <a:blip r:embed="rId5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3" marL="172800" indent="-23040">
              <a:spcBef>
                <a:spcPts val="249"/>
              </a:spcBef>
              <a:buSzPct val="100000"/>
              <a:buBlip>
                <a:blip r:embed="rId6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4" marL="220320" indent="-24120">
              <a:spcBef>
                <a:spcPts val="249"/>
              </a:spcBef>
              <a:buSzPct val="100000"/>
              <a:buBlip>
                <a:blip r:embed="rId7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5" marL="220320" indent="-24120">
              <a:spcBef>
                <a:spcPts val="249"/>
              </a:spcBef>
              <a:buSzPct val="100000"/>
              <a:buBlip>
                <a:blip r:embed="rId8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6" marL="220320" indent="-24120">
              <a:spcBef>
                <a:spcPts val="249"/>
              </a:spcBef>
              <a:buSzPct val="100000"/>
              <a:buBlip>
                <a:blip r:embed="rId9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Num" idx="3"/>
          </p:nvPr>
        </p:nvSpPr>
        <p:spPr>
          <a:xfrm>
            <a:off x="8693280" y="6640560"/>
            <a:ext cx="1131840" cy="155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000000"/>
                </a:solidFill>
                <a:latin typeface="Eurosti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571F73C7-EC5B-4110-83CC-8F3C5BB3D9DF}" type="slidenum">
              <a:rPr b="0" lang="de-DE" sz="24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0"/>
    <p:sldLayoutId id="2147483676" r:id="rId11"/>
    <p:sldLayoutId id="2147483677" r:id="rId12"/>
    <p:sldLayoutId id="2147483678" r:id="rId13"/>
    <p:sldLayoutId id="2147483679" r:id="rId14"/>
    <p:sldLayoutId id="2147483680" r:id="rId15"/>
    <p:sldLayoutId id="2147483681" r:id="rId16"/>
    <p:sldLayoutId id="2147483682" r:id="rId17"/>
    <p:sldLayoutId id="2147483683" r:id="rId18"/>
    <p:sldLayoutId id="2147483684" r:id="rId19"/>
    <p:sldLayoutId id="2147483685" r:id="rId20"/>
    <p:sldLayoutId id="2147483686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liennummernplatzhalter 2"/>
          <p:cNvSpPr/>
          <p:nvPr/>
        </p:nvSpPr>
        <p:spPr>
          <a:xfrm>
            <a:off x="8693280" y="6640560"/>
            <a:ext cx="113184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C807C629-07D6-4C7D-99BE-60413B3AC10A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44160" y="3141720"/>
            <a:ext cx="9072360" cy="26272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i="1" lang="de-DE" sz="6200" spc="-1" strike="noStrike">
                <a:solidFill>
                  <a:srgbClr val="000000"/>
                </a:solidFill>
                <a:latin typeface="Arial"/>
              </a:rPr>
              <a:t>PLMJobManagerV2</a:t>
            </a:r>
            <a:br>
              <a:rPr sz="6200"/>
            </a:br>
            <a:r>
              <a:rPr b="1" lang="de-DE" sz="4200" spc="-1" strike="noStrike">
                <a:solidFill>
                  <a:srgbClr val="000000"/>
                </a:solidFill>
                <a:latin typeface="Arial"/>
              </a:rPr>
              <a:t>Setup Dokumentation</a:t>
            </a:r>
            <a:br>
              <a:rPr sz="4200"/>
            </a:br>
            <a:r>
              <a:rPr b="1" lang="de-DE" sz="4200" spc="-1" strike="noStrike">
                <a:solidFill>
                  <a:srgbClr val="000000"/>
                </a:solidFill>
                <a:latin typeface="Arial"/>
              </a:rPr>
              <a:t>#CustomerName#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8" descr="MyApplLogo"/>
          <p:cNvPicPr/>
          <p:nvPr/>
        </p:nvPicPr>
        <p:blipFill>
          <a:blip r:embed="rId1"/>
          <a:stretch/>
        </p:blipFill>
        <p:spPr>
          <a:xfrm>
            <a:off x="3003480" y="1006560"/>
            <a:ext cx="3348000" cy="213516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10"/>
          <p:cNvSpPr/>
          <p:nvPr/>
        </p:nvSpPr>
        <p:spPr>
          <a:xfrm>
            <a:off x="7292880" y="5950080"/>
            <a:ext cx="2513160" cy="5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Created by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: #Name#</a:t>
            </a:r>
            <a:br>
              <a:rPr sz="1000"/>
            </a:b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Creation Date 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: #Date#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liennummernplatzhalter 3"/>
          <p:cNvSpPr/>
          <p:nvPr/>
        </p:nvSpPr>
        <p:spPr>
          <a:xfrm>
            <a:off x="8693280" y="6640560"/>
            <a:ext cx="113184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03A08B21-481D-4829-BE69-31ABF264A8CB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Mitschrift Install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marL="166680" indent="-166680">
              <a:spcBef>
                <a:spcPts val="249"/>
              </a:spcBef>
              <a:buSzPct val="102792"/>
              <a:buBlip>
                <a:blip r:embed="rId1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Alle Informationen zur Installation des PLMJobManager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Text Box 251"/>
          <p:cNvSpPr/>
          <p:nvPr/>
        </p:nvSpPr>
        <p:spPr>
          <a:xfrm>
            <a:off x="285840" y="1461960"/>
            <a:ext cx="946296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Installation JobServer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181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ie Installation erfolgte auf folgendem Hauptverzeichnis im Netzwerk: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UNC: \\CustomServer\plmshare\JobManagerV2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181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omputername des Rechners auf dem der SQL Server Installiert wurde: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\\Custom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181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omputername des Rechners auf dem der JobServer läuft: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JobServer: \\CustomServer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Hinweis:     Port  13001 .. 13002 muss freigeschaltet se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181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TC – NX Installation Organis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181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TestSystem: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TC Data: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\\CustomServer\plmshare\tctest\data\tnsnames.ora  -&gt; tctest 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TC Command-Prompt: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\\CustomServer\plmshare\tctest\scripts\start_tc_cmd.cmd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%UGS_SHR_DIR%\start_apps\windows\start_nx75.bat de tc_prompt #TcSiteId# tc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181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Foliennummernplatzhalter 3"/>
          <p:cNvSpPr/>
          <p:nvPr/>
        </p:nvSpPr>
        <p:spPr>
          <a:xfrm>
            <a:off x="8693280" y="6640560"/>
            <a:ext cx="113184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964BC6C0-3DE1-4E4D-BA6E-74FC42A2FAA0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Installation SQL Server #Datum#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marL="166680" indent="-166680">
              <a:spcBef>
                <a:spcPts val="249"/>
              </a:spcBef>
              <a:buSzPct val="102792"/>
              <a:buBlip>
                <a:blip r:embed="rId1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…</a:t>
            </a: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liennummernplatzhalter 3"/>
          <p:cNvSpPr/>
          <p:nvPr/>
        </p:nvSpPr>
        <p:spPr>
          <a:xfrm>
            <a:off x="8693280" y="6640560"/>
            <a:ext cx="113184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523BFECF-0F91-4C59-A599-8BD4B976C55A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Mitschrift #Datum#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marL="166680" indent="-166680">
              <a:spcBef>
                <a:spcPts val="249"/>
              </a:spcBef>
              <a:buSzPct val="102792"/>
              <a:buBlip>
                <a:blip r:embed="rId1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…</a:t>
            </a: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Textfeld 4"/>
          <p:cNvSpPr/>
          <p:nvPr/>
        </p:nvSpPr>
        <p:spPr>
          <a:xfrm>
            <a:off x="135000" y="1376280"/>
            <a:ext cx="9416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X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x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feld 1"/>
          <p:cNvSpPr/>
          <p:nvPr/>
        </p:nvSpPr>
        <p:spPr>
          <a:xfrm rot="20913600">
            <a:off x="1430280" y="2395440"/>
            <a:ext cx="67611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mplate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py this Slide first and ad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our Documentation into copied sli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09:19:42Z</dcterms:created>
  <dc:creator>Josef Feuerstein</dc:creator>
  <dc:description/>
  <dc:language>en-US</dc:language>
  <cp:lastModifiedBy>Josef Feuerstein</cp:lastModifiedBy>
  <cp:lastPrinted>2002-04-15T13:20:54Z</cp:lastPrinted>
  <dcterms:modified xsi:type="dcterms:W3CDTF">2012-04-18T21:51:41Z</dcterms:modified>
  <cp:revision>105</cp:revision>
  <dc:subject/>
  <dc:title>PLMJobManagerV2 Docu Custome</dc:title>
</cp:coreProperties>
</file>