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85B367D6-287A-4568-A2A9-FE9BF6C470DE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2_A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A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3_Ap_McTry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F45D8CC-B936-4734-B9B4-5BFA1DF9636C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FD032-EA76-48F0-B32F-EF2E555D64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B493E-9689-484A-A7B7-5A0F397CE2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BC110-2D07-4E13-BE04-F164F0F483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214A8-20A0-4D0A-A356-D4B4E9CD6A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211B2-6070-4BFA-9091-38EEC950DC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1E00A-443E-44AC-B1D3-B18C085520F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9ABC3-1D0B-468F-9F5F-32FFF0EED0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73C90-B70F-4CB4-AD56-1481AF6BB5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863424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2B96D-F9B9-42D1-8A48-248021C71D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8DA81-22A5-471E-9AC6-AAF1D87904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4CF84-91BC-4C85-92EA-4F8ED6931E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706BB-E7CF-43C4-B716-BAD3614ED6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C7F86EA9-E7A9-4192-B6E8-284ACDE8CA7E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35000" y="6593040"/>
            <a:ext cx="863424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_etup_Nx75.ppt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18.08.2010      gedruckt am: </a:t>
            </a:r>
            <a:fld id="{30E942D6-03A8-428B-9A6F-DE4A34803B7E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9772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4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81861BE2-90AE-4159-99C9-B4722223DA19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5240" y="3897000"/>
            <a:ext cx="7657920" cy="219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r>
              <a:rPr b="1" lang="de-DE" sz="57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RefileNx75 – Sett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yApplLogo"/>
          <p:cNvPicPr/>
          <p:nvPr/>
        </p:nvPicPr>
        <p:blipFill>
          <a:blip r:embed="rId1"/>
          <a:stretch/>
        </p:blipFill>
        <p:spPr>
          <a:xfrm>
            <a:off x="2720880" y="1197000"/>
            <a:ext cx="41767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X7.5 Sett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ettings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344520" y="1227240"/>
            <a:ext cx="92534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3"/>
          <a:stretch/>
        </p:blipFill>
        <p:spPr>
          <a:xfrm>
            <a:off x="358920" y="3429000"/>
            <a:ext cx="91659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10-29T18:50:33Z</dcterms:modified>
  <cp:revision>175</cp:revision>
  <dc:subject/>
  <dc:title>Refile Manager V1.0</dc:title>
</cp:coreProperties>
</file>