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104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2"/>
          </p:nvPr>
        </p:nvSpPr>
        <p:spPr>
          <a:xfrm>
            <a:off x="3800520" y="-36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3"/>
          </p:nvPr>
        </p:nvSpPr>
        <p:spPr>
          <a:xfrm>
            <a:off x="-360" y="9283320"/>
            <a:ext cx="290844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4"/>
          </p:nvPr>
        </p:nvSpPr>
        <p:spPr>
          <a:xfrm>
            <a:off x="3800520" y="9283320"/>
            <a:ext cx="2908080" cy="49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de-DE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3C9CDF0D-1BED-4C4B-B34A-ECD5890921E8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243000" y="733320"/>
            <a:ext cx="5294160" cy="366552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74760" y="4642920"/>
            <a:ext cx="60768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S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2_ApOwn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1_ApReplOb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Rf3_Ap_McTryR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liennummernplatzhalter 3"/>
          <p:cNvSpPr/>
          <p:nvPr/>
        </p:nvSpPr>
        <p:spPr>
          <a:xfrm>
            <a:off x="3800520" y="9283680"/>
            <a:ext cx="29080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44B33E62-CD2B-4F30-9EE2-932DA1314925}" type="slidenum">
              <a:rPr b="0" lang="de-DE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F5801-A7CD-4976-8ECE-3676CF2E9C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1318B-8738-41E6-BF73-A5C86C7F1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8745D-3020-4118-86D9-E41867D86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508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5520" y="93168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464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508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5520" y="1023840"/>
            <a:ext cx="309528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27321-0FB1-4F7C-B111-DC1FDAA4EA0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4B47-3699-4A05-8E14-497A4D7890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5B58F-F8D0-4BD1-9079-72D09B9BD7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42885-8761-4797-B6D9-D4F63009E8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3EC8B-8638-4E4F-AFE4-1B45A95DA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5000" y="396720"/>
            <a:ext cx="863424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75D4C-9BE0-40C8-8556-E943254FD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D25B2-0695-4E31-9E0B-F53262F7F8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1240" y="102384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FA6B7-010A-4F48-8160-962E982CE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1240" y="931680"/>
            <a:ext cx="469152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4640" y="1023840"/>
            <a:ext cx="9613800" cy="838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55000"/>
          </a:bodyPr>
          <a:p>
            <a:pPr indent="0">
              <a:spcBef>
                <a:spcPts val="249"/>
              </a:spcBef>
              <a:buNone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FF93-D638-4C7C-BA62-476C208396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9"/>
          <p:cNvSpPr/>
          <p:nvPr/>
        </p:nvSpPr>
        <p:spPr>
          <a:xfrm>
            <a:off x="3240" y="1440"/>
            <a:ext cx="9889920" cy="868680"/>
          </a:xfrm>
          <a:prstGeom prst="rect">
            <a:avLst/>
          </a:prstGeom>
          <a:gradFill rotWithShape="0">
            <a:gsLst>
              <a:gs pos="0">
                <a:srgbClr val="dde5ff"/>
              </a:gs>
              <a:gs pos="50000">
                <a:srgbClr val="8da8ff"/>
              </a:gs>
              <a:gs pos="100000">
                <a:srgbClr val="dde5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sldNum" idx="1"/>
          </p:nvPr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86463E62-EA9C-402D-B4A7-B2DE33EAF13B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body"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 fontScale="14000"/>
          </a:bodyPr>
          <a:p>
            <a:pPr marL="23040" indent="-23040">
              <a:spcBef>
                <a:spcPts val="249"/>
              </a:spcBef>
              <a:buSzPct val="102792"/>
              <a:buBlip>
                <a:blip r:embed="rId2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80640" indent="-23040">
              <a:spcBef>
                <a:spcPts val="249"/>
              </a:spcBef>
              <a:buSzPct val="100000"/>
              <a:buBlip>
                <a:blip r:embed="rId3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26360" indent="-22320">
              <a:spcBef>
                <a:spcPts val="249"/>
              </a:spcBef>
              <a:buSzPct val="100000"/>
              <a:buBlip>
                <a:blip r:embed="rId4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3" marL="172800" indent="-23040">
              <a:spcBef>
                <a:spcPts val="249"/>
              </a:spcBef>
              <a:buSzPct val="100000"/>
              <a:buBlip>
                <a:blip r:embed="rId5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4" marL="220320" indent="-24120">
              <a:spcBef>
                <a:spcPts val="249"/>
              </a:spcBef>
              <a:buSzPct val="100000"/>
              <a:buBlip>
                <a:blip r:embed="rId6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5" marL="220320" indent="-24120">
              <a:spcBef>
                <a:spcPts val="249"/>
              </a:spcBef>
              <a:buSzPct val="100000"/>
              <a:buBlip>
                <a:blip r:embed="rId7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6" marL="220320" indent="-24120">
              <a:spcBef>
                <a:spcPts val="249"/>
              </a:spcBef>
              <a:buSzPct val="100000"/>
              <a:buBlip>
                <a:blip r:embed="rId8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Text Box 33"/>
          <p:cNvSpPr/>
          <p:nvPr/>
        </p:nvSpPr>
        <p:spPr>
          <a:xfrm>
            <a:off x="135000" y="6593040"/>
            <a:ext cx="8634240" cy="2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©J.Fes   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LMJobMangerV2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_etup_Nx75.ppt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.Fes. Stand: 18.08.2010      gedruckt am: </a:t>
            </a:r>
            <a:fld id="{E8F46525-6F90-4902-862A-B5A7ABCFFD76}" type="datetime">
              <a:rPr b="0" lang="de-DE" sz="9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34"/>
          <p:cNvSpPr/>
          <p:nvPr/>
        </p:nvSpPr>
        <p:spPr>
          <a:xfrm>
            <a:off x="0" y="6597720"/>
            <a:ext cx="99061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64" descr="JF-Vorlagen-Briefkopf-JobManager_V00"/>
          <p:cNvPicPr/>
          <p:nvPr/>
        </p:nvPicPr>
        <p:blipFill>
          <a:blip r:embed="rId9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liennummernplatzhalter 2"/>
          <p:cNvSpPr/>
          <p:nvPr/>
        </p:nvSpPr>
        <p:spPr>
          <a:xfrm>
            <a:off x="7488360" y="6593040"/>
            <a:ext cx="206352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Eurostile"/>
              </a:rPr>
              <a:t>Folie </a:t>
            </a:r>
            <a:fld id="{14982E71-D200-45BE-8FA4-9840B0CD8770}" type="slidenum">
              <a:rPr b="0" lang="de-DE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5240" y="3897000"/>
            <a:ext cx="7657920" cy="2197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 algn="ctr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de-DE" sz="5700" spc="-1" strike="noStrike">
                <a:solidFill>
                  <a:srgbClr val="000000"/>
                </a:solidFill>
                <a:latin typeface="Arial"/>
              </a:rPr>
              <a:t>PLMJobManagerV2</a:t>
            </a:r>
            <a:r>
              <a:rPr b="1" lang="de-DE" sz="57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700"/>
            </a:br>
            <a:r>
              <a:rPr b="1" lang="de-DE" sz="3800" spc="-1" strike="noStrike">
                <a:solidFill>
                  <a:srgbClr val="000000"/>
                </a:solidFill>
                <a:latin typeface="Arial"/>
              </a:rPr>
              <a:t>RefileNx75 – Setting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6"/>
          <p:cNvSpPr/>
          <p:nvPr/>
        </p:nvSpPr>
        <p:spPr>
          <a:xfrm>
            <a:off x="6453360" y="5877000"/>
            <a:ext cx="232884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Erstellt vo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Josef Feuerste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8" descr="MyApplLogo"/>
          <p:cNvPicPr/>
          <p:nvPr/>
        </p:nvPicPr>
        <p:blipFill>
          <a:blip r:embed="rId1"/>
          <a:stretch/>
        </p:blipFill>
        <p:spPr>
          <a:xfrm>
            <a:off x="2720880" y="1197000"/>
            <a:ext cx="41767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5000" y="396720"/>
            <a:ext cx="8634240" cy="4716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ctr">
            <a:noAutofit/>
          </a:bodyPr>
          <a:p>
            <a:pPr indent="0"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NX7.5 Setting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4640" y="931680"/>
            <a:ext cx="9613800" cy="1760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0" bIns="0" anchor="t">
            <a:normAutofit/>
          </a:bodyPr>
          <a:p>
            <a:pPr marL="166680" indent="-166680">
              <a:spcBef>
                <a:spcPts val="249"/>
              </a:spcBef>
              <a:buSzPct val="102792"/>
              <a:buBlip>
                <a:blip r:embed="rId1"/>
              </a:buBlip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Verdana"/>
              </a:rPr>
              <a:t>Settings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2"/>
          <a:stretch/>
        </p:blipFill>
        <p:spPr>
          <a:xfrm>
            <a:off x="344520" y="1227240"/>
            <a:ext cx="92534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"/>
          <p:cNvPicPr/>
          <p:nvPr/>
        </p:nvPicPr>
        <p:blipFill>
          <a:blip r:embed="rId3"/>
          <a:stretch/>
        </p:blipFill>
        <p:spPr>
          <a:xfrm>
            <a:off x="358920" y="3429000"/>
            <a:ext cx="9165960" cy="3024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09:19:42Z</dcterms:created>
  <dc:creator>Josef Feuerstein</dc:creator>
  <dc:description/>
  <dc:language>en-US</dc:language>
  <cp:lastModifiedBy>Josef Feuerstein</cp:lastModifiedBy>
  <cp:lastPrinted>2002-04-15T13:20:54Z</cp:lastPrinted>
  <dcterms:modified xsi:type="dcterms:W3CDTF">2010-10-29T18:50:33Z</dcterms:modified>
  <cp:revision>175</cp:revision>
  <dc:subject/>
  <dc:title>Refile Manager V1.0</dc:title>
</cp:coreProperties>
</file>