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0058400" cy="77724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644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699600" y="180468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9328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644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699600" y="4575960"/>
            <a:ext cx="290736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93640" y="298440"/>
            <a:ext cx="675504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20360" y="457596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9328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20360" y="1804680"/>
            <a:ext cx="440640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93280" y="4575960"/>
            <a:ext cx="9029880" cy="25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1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593280" y="1804680"/>
            <a:ext cx="9029880" cy="53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1276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63828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51040" indent="-211320">
              <a:buClr>
                <a:srgbClr val="949eaa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851040" indent="-211320"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09480" y="7353360"/>
            <a:ext cx="965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69B681-4FAB-44F0-989F-40A0E6BD08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4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7108920"/>
            <a:ext cx="90122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© 2007. Siemens Product Lifecycle Management Software Inc. All rights reserv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16080" y="295200"/>
            <a:ext cx="9741960" cy="1103040"/>
            <a:chOff x="316080" y="295200"/>
            <a:chExt cx="9741960" cy="1103040"/>
          </a:xfrm>
        </p:grpSpPr>
        <p:sp>
          <p:nvSpPr>
            <p:cNvPr id="47" name=""/>
            <p:cNvSpPr/>
            <p:nvPr/>
          </p:nvSpPr>
          <p:spPr>
            <a:xfrm>
              <a:off x="316080" y="295200"/>
              <a:ext cx="9741960" cy="1103040"/>
            </a:xfrm>
            <a:prstGeom prst="rect">
              <a:avLst/>
            </a:prstGeom>
            <a:solidFill>
              <a:srgbClr val="fe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880" rIns="101880" tIns="51120" bIns="51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9160"/>
                  <a:tab algn="l" pos="2038320"/>
                  <a:tab algn="l" pos="3057480"/>
                  <a:tab algn="l" pos="4076640"/>
                  <a:tab algn="l" pos="5095800"/>
                  <a:tab algn="l" pos="6114960"/>
                  <a:tab algn="l" pos="7134120"/>
                  <a:tab algn="l" pos="8153280"/>
                  <a:tab algn="l" pos="9172440"/>
                  <a:tab algn="l" pos="101916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7921080" y="480240"/>
              <a:ext cx="1760040" cy="3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"/>
          <p:cNvSpPr/>
          <p:nvPr/>
        </p:nvSpPr>
        <p:spPr>
          <a:xfrm>
            <a:off x="5616720" y="7353360"/>
            <a:ext cx="40161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emens PLM Softwar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01760" indent="-40032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586080" algn="ctr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192320" indent="-76536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609560" indent="-969840" algn="ctr">
              <a:buClr>
                <a:srgbClr val="949eaa"/>
              </a:buClr>
              <a:buFont typeface="Wingdings" charset="2"/>
              <a:buChar char="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609560" indent="-969840"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3280" y="1609200"/>
            <a:ext cx="902988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5349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4500" spc="-1" strike="noStrike">
                <a:solidFill>
                  <a:srgbClr val="000000"/>
                </a:solidFill>
                <a:latin typeface="Arial"/>
              </a:rPr>
              <a:t>PLM Benutzergruppe 2008 </a:t>
            </a:r>
            <a:r>
              <a:rPr b="1" lang="de-DE" sz="2500" spc="-1" strike="noStrike">
                <a:solidFill>
                  <a:srgbClr val="000000"/>
                </a:solidFill>
                <a:latin typeface="Arial"/>
              </a:rPr>
              <a:t>Jobmanagement TCEng/NX Umfeld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3280" y="3139560"/>
            <a:ext cx="9029880" cy="17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, Siemens PL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Fulda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Steckbrief: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 Ke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S Lang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lution Architect im Service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Bereich Digital Product Desig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ipl-Ing. (FH) Maschinen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über 10 Jahre Service täti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Maschinen- und Anlagenbau,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chiffba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423720" indent="-209520">
              <a:buClr>
                <a:srgbClr val="949eaa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Softwareentwicklungsprojekt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719840" y="1657440"/>
            <a:ext cx="2028960" cy="25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781520" y="6010200"/>
            <a:ext cx="2495520" cy="1038240"/>
          </a:xfrm>
          <a:prstGeom prst="ellipse">
            <a:avLst/>
          </a:prstGeom>
          <a:solidFill>
            <a:srgbClr val="68b53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echnische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alisier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00280" y="6076800"/>
            <a:ext cx="2495520" cy="1038240"/>
          </a:xfrm>
          <a:prstGeom prst="ellipse">
            <a:avLst/>
          </a:prstGeom>
          <a:solidFill>
            <a:srgbClr val="afb4be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brechn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Kontakt zur Entwickl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63840" y="5924520"/>
            <a:ext cx="2446200" cy="305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PL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2920" y="1609560"/>
            <a:ext cx="8227800" cy="53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600" spc="-1" strike="noStrike">
                <a:solidFill>
                  <a:srgbClr val="000000"/>
                </a:solidFill>
                <a:latin typeface="Arial"/>
              </a:rPr>
              <a:t>Rolle: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Bindeglied bei Projekten, im Themenumfeld: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JobManager – NXRefile 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Kunde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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Siemens PLM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Dipl.Ing. J.Feuerste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organisator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technischer Ansprechpart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gemeinsames Ziel:</a:t>
            </a:r>
            <a:br>
              <a:rPr sz="2200"/>
            </a:b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finierte Aufgabenverteilung als Geschäftsmodell</a:t>
            </a: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068720" y="5915160"/>
            <a:ext cx="2451240" cy="305280"/>
          </a:xfrm>
          <a:prstGeom prst="rect">
            <a:avLst/>
          </a:prstGeom>
          <a:solidFill>
            <a:srgbClr val="68b53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ipl.Ing. J.Feuers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606680" y="5326200"/>
            <a:ext cx="4889520" cy="4878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ojek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609200"/>
            <a:ext cx="8227800" cy="58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File-Projekte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oenig &amp; Bauer A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/S/H (Refile NX2 + NX4) (28 Standor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ndmöller und Höl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orst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sringhaus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reudenbe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ontBlan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intj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iemens Konstanz I&amp;S Postsyst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Stabil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Möll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ze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Renk AG Augs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Grob (in Vorber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45200" y="1766880"/>
            <a:ext cx="253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7440" indent="-217440" algn="ctr">
              <a:lnSpc>
                <a:spcPct val="100000"/>
              </a:lnSpc>
              <a:spcBef>
                <a:spcPts val="1125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d0d3da"/>
                </a:solidFill>
                <a:latin typeface="Arial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476520" y="6029280"/>
            <a:ext cx="6239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000000"/>
                </a:solidFill>
                <a:latin typeface="Arial"/>
              </a:rPr>
              <a:t>~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8.000.000 Datasets mit Hilfe des PLMJobManagers refi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1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3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93640" y="298440"/>
            <a:ext cx="675504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de-DE" sz="2200" spc="-1" strike="noStrike">
                <a:solidFill>
                  <a:srgbClr val="000000"/>
                </a:solidFill>
                <a:latin typeface="Arial"/>
              </a:rPr>
              <a:t>JobManagemen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4443480"/>
            <a:ext cx="529596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Danke …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de-DE" sz="2200" spc="-1" strike="noStrike">
                <a:solidFill>
                  <a:srgbClr val="000000"/>
                </a:solidFill>
                <a:latin typeface="Arial"/>
              </a:rPr>
              <a:t>christof.keller@siemens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137360" y="1903320"/>
            <a:ext cx="23925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30T01:43:30Z</dcterms:created>
  <dc:creator>David Abreu</dc:creator>
  <dc:description/>
  <dc:language>en-US</dc:language>
  <cp:lastModifiedBy>Josef Feuerstein</cp:lastModifiedBy>
  <cp:lastPrinted>1999-11-04T17:34:40Z</cp:lastPrinted>
  <dcterms:modified xsi:type="dcterms:W3CDTF">2008-09-09T09:31:37Z</dcterms:modified>
  <cp:revision>417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lyPaperSize">
    <vt:bool>1</vt:bool>
  </property>
  <property fmtid="{D5CDD505-2E9C-101B-9397-08002B2CF9AE}" pid="3" name="DocID">
    <vt:lpwstr>SVO991109003mkt-2120-189</vt:lpwstr>
  </property>
  <property fmtid="{D5CDD505-2E9C-101B-9397-08002B2CF9AE}" pid="4" name="DocIDPosition">
    <vt:r8>1</vt:r8>
  </property>
  <property fmtid="{D5CDD505-2E9C-101B-9397-08002B2CF9AE}" pid="5" name="DocIDinSlide">
    <vt:bool>1</vt:bool>
  </property>
  <property fmtid="{D5CDD505-2E9C-101B-9397-08002B2CF9AE}" pid="6" name="DocIDinTitle">
    <vt:bool>1</vt:bool>
  </property>
  <property fmtid="{D5CDD505-2E9C-101B-9397-08002B2CF9AE}" pid="7" name="McKinsey Margins">
    <vt:bool>1</vt:bool>
  </property>
  <property fmtid="{D5CDD505-2E9C-101B-9397-08002B2CF9AE}" pid="8" name="Traditional Objects">
    <vt:bool>1</vt:bool>
  </property>
  <property fmtid="{D5CDD505-2E9C-101B-9397-08002B2CF9AE}" pid="9" name="Use 12-pt Templates">
    <vt:bool>1</vt:bool>
  </property>
  <property fmtid="{D5CDD505-2E9C-101B-9397-08002B2CF9AE}" pid="10" name="_NewReviewCycle">
    <vt:lpwstr/>
  </property>
</Properties>
</file>