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F4BA1-7A36-4F1E-B3FF-CF89790C6C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1A66C-901F-446B-9C43-60615869A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E4A2-B06A-4123-9404-500615BC5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36B1-AD3D-4ED0-B49A-B0A120F115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CADC-0174-4BEC-AD04-71D093FBF4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A8AAE-40C2-4923-AEE4-53C363B28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722C1-E0EC-4D27-AE7A-0F9ACAE6C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1C74-C398-4E2C-AC7D-C6C29DD52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E835-7BCD-4A01-8489-4ECAD4BC7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389E-FFE7-4B92-A793-63EB8AA62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D028-5ADA-441C-99A9-C22206C7A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B8D2-7E86-4D9C-83E5-DE84C3DFE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4134ADE-FFD7-4D46-9BCA-D7B6E6052B51}" type="slidenum">
              <a:rPr b="0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200?#   gedruckt am: </a:t>
            </a:r>
            <a:fld id="{D791543C-6FA3-4023-A9C7-A0CD596F935B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4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5700"/>
            </a:b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JobPlaner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94FE-0CA1-4274-AC83-2175BFB81EA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35000" y="1413000"/>
            <a:ext cx="9462960" cy="24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EF6E-0489-43BB-AF36-0F3626000B9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3A66-B48D-4F0A-ACEC-C9478A50B5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8768-F083-41C8-8F22-FFD5DB6F0D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B832-DD28-40BE-BC31-8150E1D8142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09-04-13T09:09:37Z</dcterms:modified>
  <cp:revision>79</cp:revision>
  <dc:subject/>
  <dc:title>PLMJobManagerV2 Docu Custome</dc:title>
</cp:coreProperties>
</file>