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CE6FBEF-0864-4224-9252-645F20288FD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E3AC8D5-9DB5-4C6A-BC53-5D33C9670B8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file                27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GII_LICENSE_SERVER              28000@vaf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B584-C1E8-4937-A603-81767F3E6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AB22-8480-46A0-ADBD-7224B6208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E411-AC50-40BE-A27A-B3D3553DF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8CBB0-D829-416F-B68B-2A0D4D2474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C1179-9BE8-488A-860A-E9A996A9ED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3CDE-E779-444A-B665-EAB5FF885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36938-885B-414B-9DA3-4FB17959E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DBA6-5BCF-4EDB-BCA3-C5290D7D4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765648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E5B6-5BDC-4E7A-B16B-9DB3EB163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DD78F-870A-46E7-9A83-CAF8E5E24B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BFF2-EC5F-4BED-878B-148E44637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7F60-7911-4BB9-ACD3-B38A552D4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A348683-034C-4CAA-BF26-4DBF390A195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– Docu #CustomerName#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. Stand: #DD.MM.YYYY#   gedruckt am: </a:t>
            </a:r>
            <a:fld id="{1FEFFB52-3F11-4BA9-B4E2-75142ABCBD0F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3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Josef.Feuerstein@PLMJobManager.co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401FFB8-31DA-4159-887A-FCB25C1060E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4160" y="3141720"/>
            <a:ext cx="8172360" cy="295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Customer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7221600" y="6273720"/>
            <a:ext cx="24858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 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6D5CC99-51A0-4F3A-8714-E5F0D8F50F1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Text Box 251"/>
          <p:cNvSpPr/>
          <p:nvPr/>
        </p:nvSpPr>
        <p:spPr>
          <a:xfrm>
            <a:off x="285840" y="1413000"/>
            <a:ext cx="9462960" cy="29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Organis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UNC: \\MyServerName\ShareNam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\\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der Standorte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ORACLE_SID=plm2 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MAN_DATA=u:\PLM2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and Prompt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%UGS_SHR_DIR%\start_apps\windows\start_nx6.bat de tceng_prompt PLM2 2005sr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9719932-4695-48DA-9740-3B3BD0FD986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Set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die für die Einstellungen des PLMJobManagers Notwendig sind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4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D2BA7E4-E715-434C-A01F-142A37057EC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file Para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73076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Liste der Paramet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2680" y="1357200"/>
          <a:ext cx="9504360" cy="3165480"/>
        </p:xfrm>
        <a:graphic>
          <a:graphicData uri="http://schemas.openxmlformats.org/drawingml/2006/table">
            <a:tbl>
              <a:tblPr/>
              <a:tblGrid>
                <a:gridCol w="360360"/>
                <a:gridCol w="611280"/>
                <a:gridCol w="2800440"/>
                <a:gridCol w="583920"/>
                <a:gridCol w="1081080"/>
                <a:gridCol w="503280"/>
                <a:gridCol w="1836720"/>
                <a:gridCol w="395280"/>
                <a:gridCol w="1332000"/>
              </a:tblGrid>
              <a:tr h="3751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ype (SP/A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F Parameter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Op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G non Mast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i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y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master/Test-I001956_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-I001956/-/specification/Test-I001956_-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bei einem Single Part –y gesetzt so wird das Master nur 1xmal gespei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keep_volume=yes -update_mod_props=no -non_masters=yes -refile_released=yes -bypass=yes -structure_sync=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d</a:t>
                      </a:r>
                      <a:br>
                        <a:rPr sz="900"/>
                      </a:b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master/Test000185_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@DB/Test000185/1/specification/Test000185_1_Z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rd ein Assembly mit –y refiled dann wird das Master 2xmal gespeich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0" lang="de-DE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ehe Teile Histo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E3948A9-56C2-44F7-9A49-35EBEBBCD65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blauf Produktiv Umstell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Vorbereitung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44520" y="1484280"/>
            <a:ext cx="7704000" cy="47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Umziehen der DB auf den neuen Server VAF9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Oracle TCE DB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Volume Daten von altem Produktive Server auf neuen Serve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Abstimmung mit Baumgarner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Zeitliche einschätzu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fo von J.Feuerstein: TCE/NX System sollte spätestens bis 14:00 Uhr verfügbar sein</a:t>
            </a:r>
            <a:br>
              <a:rPr sz="1000"/>
            </a:b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Abschätzung der Refile Zeiten: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Single Parts bei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  - Assemblys mit Einsatz von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Rechner ca.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Std  </a:t>
            </a:r>
            <a:br>
              <a:rPr sz="1000"/>
            </a:b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attenplatz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lattenplatz für Oracle RedoLogfiles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Plattenplatz prüfen min 10 GB frei für diesen Zeitrau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Plattenplatz für Volume Daten bitte +1/3 mehr frei gegenüber dem Aktuellen Bedar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orbereitungen für den Produktiv Refi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Liste von zu prüfenden Baugruppen erstellen bitte eintragen in: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 \\MyServer\ugsshare\JobManagerV2\11-Documentation.Custom\NXRefile\NX-Refile-Partlisten.x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plante Term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Prüfung der Ergebnisse am Testsystem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- KW XX Fr. 23 + Sa 24.10</a:t>
            </a:r>
            <a:br>
              <a:rPr sz="1000"/>
            </a:b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bei Änderung der Termine bitte J.Feuerstein so früh wie möglich informieren</a:t>
            </a:r>
            <a:br>
              <a:rPr sz="1000"/>
            </a:b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Mobil: 0176-2216-1006 </a:t>
            </a:r>
            <a:r>
              <a:rPr b="0" lang="de-DE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Josef.Feuerstein@PLMJobManager.com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A716C62-4919-457C-8709-CE892CD658A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zum Betrieb der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 Betrieb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AB55539-A33C-4259-AE53-491C14CDE35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765648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tiz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de-DE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03-11T12:23:20Z</dcterms:modified>
  <cp:revision>84</cp:revision>
  <dc:subject/>
  <dc:title>PLMJobManagerV2 Docu Custome</dc:title>
</cp:coreProperties>
</file>