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FCCB6AA-74B6-4BA2-A9D7-41CC166EB745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5F9DC5C-2B11-4ACD-8345-375704223A1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A30F9-1FCE-4D3F-9245-109464B5D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87ED3-8110-4852-88FB-9AD5D485BD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2B2FC-23F3-40EE-826B-486D8DCC7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EA3E-7E0C-4DAC-8E0B-1E82F4253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5336C-8BCC-480F-B5C1-51C26A1B69F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037A-E446-4BD6-AA25-DB128E6349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72E9F-8FD0-46B3-81C7-1D0C8B52C2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D93D-4E5F-4801-997C-77221BDAC8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4351-93B2-41C1-BF51-BF673600F0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C2CC4-91E8-4D5F-BBB5-D112C9F6DA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D039-EA86-4179-A735-45938AD259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A91D-21C9-4F67-BD89-B8B2AEF9B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DA40B-11D3-4600-BFFA-63FC9ED0F5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9770-BD6A-4F6B-A4F0-254E78AEB8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5241-9664-4F4A-AC3C-928C0DEAE9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B36C9-DDB4-4CFF-9168-6C2DDD5980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0882-062D-448D-B103-F98182BBEB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1E6-5C01-4F71-80F5-9B3EDEBADD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465-E4DA-438C-ACC8-DEABB3DE30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282-D6BE-4EE2-8A5E-33D8D77B7DA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0D4-6D71-4278-83F8-5A89E20F73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758-1EBC-428E-94FD-98E5562ED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0F326-FD0F-4D2D-B0DB-55B3353110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9B3-AD57-419A-B4D4-29A5B1EEB3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D903-341C-4775-8A68-EC309C0AB6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35F-21CE-4B5E-A1AF-95682C303BF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65CD-9F3C-4EE4-B34D-90693F510F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DE75-B5C7-4407-AB01-B82CC5D209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693-B50C-4924-9828-48266685A6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F1D-474E-44BF-AA44-1F75D1844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1500-202E-4D77-A8A5-E7E0E6941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E7DDF-642D-4252-A3EC-1EB6435A7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975C-438D-430C-802B-BDF332459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869D-B8C4-4C54-9CB8-C8A181725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30744-CEF0-4D52-B110-B9AC1394CD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59AE-F906-4376-BCB3-9FD98277B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CDDADCDD-2C8E-4516-A0BD-F0C0169AE697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AACB77A7-4871-4AB0-ACA4-40C308FDC173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7AD818CC-6254-43A7-A75F-F01360B499B8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5634087-3E0F-43DA-9FE9-2DB316514E7D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PLMDataCheck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A1B92EC3-11C2-43E7-AF71-152D1965F2D8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4AED610-6C2A-451C-B49A-954BB3848C1B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BAC2F69-D319-47FA-BC21-D82F24405B1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PLM Data Check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C8F491E-A79E-4113-AD51-5F5DE5CD902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heck #Item# #Rev# #Date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#Date# #Description#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feld 4"/>
          <p:cNvSpPr/>
          <p:nvPr/>
        </p:nvSpPr>
        <p:spPr>
          <a:xfrm>
            <a:off x="236520" y="1252440"/>
            <a:ext cx="941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tart add your Doc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49:09Z</dcterms:modified>
  <cp:revision>103</cp:revision>
  <dc:subject/>
  <dc:title>PLMJobManagerV2 Docu Custome</dc:title>
</cp:coreProperties>
</file>