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29B9B10-27F3-45F6-BAF9-7D7C07E8EFE8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Klaus Schol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809AB0B-35A1-4FA8-96F7-59C43B92203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F6DE-F9F8-4790-A8AC-F34B98BC1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1002-5DDF-4A43-B23C-5FBE7D412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F1C9D-87E1-4315-B8AC-AA317A0AC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9645A-E485-4318-9C8A-CA38A30AE1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C08AA-DEB8-4003-AD49-080263E5F7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5E5B6-4B1E-4812-884C-C8CC38BE42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4EC22-682E-4253-B444-394E8413CF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62FE-04A6-4967-B540-C482AF6327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7CF4-77A0-4E15-8A58-CF7EAA9766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2822-13F2-45C4-A9AB-C1C57C6ADD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2F6A3-1135-423A-82B1-E2551B812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9DC74-6FF5-49E8-8714-873F7085E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ADA87-DB46-41FE-B814-57EA3EDF04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0710-671D-4D0D-A5A4-EE9EF99756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3EBA1-894C-4E3E-BBBC-967C0E8787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8F7E-AF52-4F2E-8BA2-2D69926134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E95A-B55D-4340-B725-297702622AC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1F0-8256-48EF-9F4A-04A71CB59F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7E15-3CF4-4BB6-BB81-0D84EB9BB6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867-3C7E-4B4F-8C66-E75AC02043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144-EF6D-4D54-8A2F-7A69D27626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7D55-D34C-4A38-988B-1FD1170246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E3DC1-AF3A-4AB3-A524-7FA058C500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129A-1BA6-4ADF-8F2D-FD2A59D9F0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99E-FBEB-4978-9B01-84F440D24C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720-AEB5-466D-87D3-A56FD56732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FA8-D405-4D65-B301-FC6E6D93DA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E37-DC33-4625-A0B3-E7EE6E31D7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C97C-E522-4A9C-82B8-DFB67A969B2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051-2DC4-42AB-A2AC-E73C1FA06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0C47-2ECD-431F-838A-5C6727A0E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066E-D5CF-4D74-BC4A-E421985B71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8160" y="365040"/>
            <a:ext cx="96966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BE1C2-0039-455E-87AE-C0FC520D8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F91B-85D7-40D5-9FE9-DA4D8CA91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109D0-B533-42CE-B494-E7452C312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DCC37-C2DB-409B-B51A-40F5687896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Slite </a:t>
            </a:r>
            <a:fld id="{FF7237B7-BB0C-4ADC-8E57-CB2194BA0E3B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8AF689BD-1CB6-4A82-836D-65906B9C9C46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Grafik 2" descr=""/>
          <p:cNvPicPr/>
          <p:nvPr/>
        </p:nvPicPr>
        <p:blipFill>
          <a:blip r:embed="rId9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0C960071-418F-4303-8FD2-829F2777B319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02FBB73-B9B8-40F6-B947-BD9685B51F1E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9"/>
          <p:cNvSpPr/>
          <p:nvPr/>
        </p:nvSpPr>
        <p:spPr>
          <a:xfrm>
            <a:off x="0" y="0"/>
            <a:ext cx="9906120" cy="86832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3"/>
          <p:cNvSpPr/>
          <p:nvPr/>
        </p:nvSpPr>
        <p:spPr>
          <a:xfrm>
            <a:off x="414360" y="6593040"/>
            <a:ext cx="835488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©J.Fes 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– 91-PLMJobManagerV2_Setup_Customer.pp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. Last Change:#Date#   printed </a:t>
            </a:r>
            <a:fld id="{2A2519CB-D952-45AA-9AF3-6323371B3419}" type="datetime">
              <a:rPr b="0" lang="en-GB" sz="9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4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afik 2" descr=""/>
          <p:cNvPicPr/>
          <p:nvPr/>
        </p:nvPicPr>
        <p:blipFill>
          <a:blip r:embed="rId2"/>
          <a:stretch/>
        </p:blipFill>
        <p:spPr>
          <a:xfrm>
            <a:off x="6357960" y="52560"/>
            <a:ext cx="3467160" cy="38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9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3"/>
          </p:nvPr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339B863-B68A-4FB6-8AD5-C92994BF9D88}" type="slidenum">
              <a:rPr b="0" lang="de-DE" sz="24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liennummernplatzhalter 2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DE61628-CDF9-4F16-AA52-B3C18D49419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4160" y="3141720"/>
            <a:ext cx="9072360" cy="2627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6200" spc="-1" strike="noStrike">
                <a:solidFill>
                  <a:srgbClr val="000000"/>
                </a:solidFill>
                <a:latin typeface="Arial"/>
              </a:rPr>
              <a:t>PLMJobManagerV2</a:t>
            </a:r>
            <a:br>
              <a:rPr sz="6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Setup Dokumentation</a:t>
            </a:r>
            <a:br>
              <a:rPr sz="4200"/>
            </a:br>
            <a:r>
              <a:rPr b="1" lang="de-DE" sz="4200" spc="-1" strike="noStrike">
                <a:solidFill>
                  <a:srgbClr val="000000"/>
                </a:solidFill>
                <a:latin typeface="Arial"/>
              </a:rPr>
              <a:t>#CustomerName#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MyApplLogo"/>
          <p:cNvPicPr/>
          <p:nvPr/>
        </p:nvPicPr>
        <p:blipFill>
          <a:blip r:embed="rId1"/>
          <a:stretch/>
        </p:blipFill>
        <p:spPr>
          <a:xfrm>
            <a:off x="3003480" y="1006560"/>
            <a:ext cx="3348000" cy="21351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7292880" y="5950080"/>
            <a:ext cx="251316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ed by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Name#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Creation Date 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: #Date#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92BF3D8-86A6-446A-9D46-7A15BC96941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Instal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Alle Informationen zur Installation des PLMJobManager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251"/>
          <p:cNvSpPr/>
          <p:nvPr/>
        </p:nvSpPr>
        <p:spPr>
          <a:xfrm>
            <a:off x="285840" y="1461960"/>
            <a:ext cx="94629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stallation JobServer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e Installation erfolgte auf folgendem Hauptverzeichnis im Netzwerk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C: \\CustomServer\plmshare\JobManagerV2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SQL Server Installiert wurde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utername des Rechners auf dem der JobServer läuft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JobServer: \\CustomServ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     Port  13001 .. 13002 muss freigeschaltet se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C – NX Installation Organis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estSystem: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Data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data\tnsnames.ora  -&gt; tctes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C Command-Prompt: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\\CustomServer\plmshare\tctest\scripts\start_tc_cmd.cm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%UGS_SHR_DIR%\start_apps\windows\start_nx75.bat de tc_prompt #TcSiteId# tc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181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400EE31-8062-480D-A2BA-6ACE8C97D146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nstallation SQL Server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liennummernplatzhalter 3"/>
          <p:cNvSpPr/>
          <p:nvPr/>
        </p:nvSpPr>
        <p:spPr>
          <a:xfrm>
            <a:off x="8693280" y="6640560"/>
            <a:ext cx="113184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4AA5C99-E337-4150-B867-CDF34C89D99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8160" y="365040"/>
            <a:ext cx="969660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Mitschrift #Datum#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feld 4"/>
          <p:cNvSpPr/>
          <p:nvPr/>
        </p:nvSpPr>
        <p:spPr>
          <a:xfrm>
            <a:off x="135000" y="1376280"/>
            <a:ext cx="941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feld 1"/>
          <p:cNvSpPr/>
          <p:nvPr/>
        </p:nvSpPr>
        <p:spPr>
          <a:xfrm rot="20913600">
            <a:off x="1430280" y="2395440"/>
            <a:ext cx="6761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lat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py this Slide first and ad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Documentation into copied s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2-04-18T21:51:41Z</dcterms:modified>
  <cp:revision>105</cp:revision>
  <dc:subject/>
  <dc:title>PLMJobManagerV2 Docu Custome</dc:title>
</cp:coreProperties>
</file>