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BF17C14-1823-4359-82E3-E72C46A2D79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ADFF297-969F-43CB-9441-E172E304355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_volum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M Berechtigungen für Volumes setz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oice /C JN /N /T 30 /D N /M "Berechtigungen fuer Volumes setzen [J\N] 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%errorlevel% NEQ 1 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f:\ugsshare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exist %logdir%\volumes*.* del /q %logdir%\volumes*.* &gt;n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1.log  2&gt;&gt;%logdir%\volumes1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2.log  2&gt;&gt;%logdir%\volumes2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3.log  2&gt;&gt;%logdir%\volumes3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/i "%WERK%" EQU "F" GOTO 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e: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4.log  2&gt;&gt;%logdir%\volumes4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5.log  2&gt;&gt;%logdir%\volumes5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6.log  2&gt;&gt;%logdir%\volumes6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indstr errors %logdir%\volumes*.lo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ype %logdir%\volumes*.e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u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A397C-431C-40B2-AB58-51D8E75BF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FDA4-9843-40BA-BB37-F03489E83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62BE-B26F-4B6B-92BF-2F2CD2301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D0C56-C90D-4C17-A7C6-992282FE7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EC79-69D8-4944-B96A-D71484A1B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3073-E325-4F4B-9C57-CA0F22D6D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AB088-92D2-47C5-A968-2FF3F74D18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903C-C541-41E3-A7EC-AD97C27A7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19F25-F678-4CFE-A3F3-2F902ED5D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EB12-7FBB-4874-B5CE-C10B99F9A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A740-6499-4507-B8A5-FD6320513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3744-F97A-4FBB-AD4C-46A2294593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2798250-A0FD-40F4-A642-5FB1B6EC734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PLMJobMangerV2 – Tce Mitschriften Dokumentation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5.05.2011   gedruckt am: </a:t>
            </a:r>
            <a:fld id="{D4C557A9-BD0F-4B5F-8F09-D8F2B12B132A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1" descr="JF-Vorlagen-Briefkopf-JobManager_V00"/>
          <p:cNvPicPr/>
          <p:nvPr/>
        </p:nvPicPr>
        <p:blipFill>
          <a:blip r:embed="rId9"/>
          <a:stretch/>
        </p:blipFill>
        <p:spPr>
          <a:xfrm>
            <a:off x="5778360" y="63360"/>
            <a:ext cx="39880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797CBA1-24D7-404D-B3F1-91BE5917EB9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PlmJobManagerV2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TCE -Doku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631960" y="1006560"/>
            <a:ext cx="38214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FA1DF8B-28FB-46AB-BE6F-C3FBB62E350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iter Info Liste 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0840" y="1268280"/>
          <a:ext cx="9647280" cy="2987640"/>
        </p:xfrm>
        <a:graphic>
          <a:graphicData uri="http://schemas.openxmlformats.org/drawingml/2006/table">
            <a:tbl>
              <a:tblPr/>
              <a:tblGrid>
                <a:gridCol w="301680"/>
                <a:gridCol w="1368360"/>
                <a:gridCol w="3203640"/>
                <a:gridCol w="47736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reibun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ispie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ABFE43C-AC5E-4097-863F-3A55D1B3C76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61C70E0-862F-442D-BE40-D48BE26D7CF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3"/>
          <p:cNvSpPr/>
          <p:nvPr/>
        </p:nvSpPr>
        <p:spPr>
          <a:xfrm>
            <a:off x="290520" y="1260360"/>
            <a:ext cx="9207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chtigungen auf den Volum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 Versionen su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c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n: 9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ypass Regel anpassen (neu 5.5.2011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E7562F2-3F56-458F-BA82-F5C18A98DA3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307800" y="1295280"/>
            <a:ext cx="89665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eckIn nicht möglich obwohl DBA und Bypass Rechte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R 1722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hilfe: Edit ACL -&gt; Has Bypass(true) Reg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Jopp\AppData\Local\Microsoft\Windows\Temporary Internet Files\Content.Outlook\KDPQL63X\CICO_002.jpg"/>
          <p:cNvPicPr/>
          <p:nvPr/>
        </p:nvPicPr>
        <p:blipFill>
          <a:blip r:embed="rId2"/>
          <a:srcRect l="0" t="0" r="0" b="50004"/>
          <a:stretch/>
        </p:blipFill>
        <p:spPr>
          <a:xfrm>
            <a:off x="380880" y="2090880"/>
            <a:ext cx="9072720" cy="3066840"/>
          </a:xfrm>
          <a:prstGeom prst="rect">
            <a:avLst/>
          </a:prstGeom>
          <a:ln w="0">
            <a:noFill/>
          </a:ln>
        </p:spPr>
      </p:pic>
      <p:sp>
        <p:nvSpPr>
          <p:cNvPr id="63" name="Ellipse 5"/>
          <p:cNvSpPr/>
          <p:nvPr/>
        </p:nvSpPr>
        <p:spPr>
          <a:xfrm>
            <a:off x="8623440" y="3564000"/>
            <a:ext cx="830160" cy="8586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Gerade Verbindung mit Pfeil 8"/>
          <p:cNvCxnSpPr/>
          <p:nvPr/>
        </p:nvCxnSpPr>
        <p:spPr>
          <a:xfrm>
            <a:off x="3008160" y="1988640"/>
            <a:ext cx="5509080" cy="18010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35D7DD0-1EC5-469C-A79F-19E9E584A85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6332400" y="2590920"/>
            <a:ext cx="2009880" cy="3754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tus setzen oder entfern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16880" y="1487520"/>
            <a:ext cx="6351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setz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status=MyNewStatus -folder=ObjectsStatus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entfern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unrelease -status=MyNewStatus -folder=ObjectsStatusUn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673600" y="2529000"/>
            <a:ext cx="1548000" cy="306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4952880" y="2023920"/>
            <a:ext cx="2268720" cy="36370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415800" y="2889360"/>
            <a:ext cx="4025880" cy="3259080"/>
          </a:xfrm>
          <a:prstGeom prst="rect">
            <a:avLst/>
          </a:prstGeom>
          <a:ln w="0">
            <a:noFill/>
          </a:ln>
        </p:spPr>
      </p:pic>
      <p:sp>
        <p:nvSpPr>
          <p:cNvPr id="73" name="Oval 9"/>
          <p:cNvSpPr/>
          <p:nvPr/>
        </p:nvSpPr>
        <p:spPr>
          <a:xfrm>
            <a:off x="1136520" y="3176640"/>
            <a:ext cx="2521080" cy="13683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360520" y="3933720"/>
            <a:ext cx="90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legen eines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857160" y="3933360"/>
            <a:ext cx="279360" cy="190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099E2AF-772E-41F8-84E1-B80C7712A69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rechtigungen auf den Volu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okumentation der erforderlichen Berechtigungen auf den Volume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2200" y="1268280"/>
            <a:ext cx="94266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alle Ordner und Files müssen dem imanFs-Dienst-User gehören (Besitz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setowner -r MyDomainName\srv_imanfs %volumesdir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ternative:  setfile.exe /REC  /Owner=MyDomainName\srv_imanfs %volumesdir%\*.*  ! Achtung Tool prüfen !! unbedingt ..\*.* angeben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alle Verzeichnisse müssen die berechtigungen: imanFs-Dienst-User RWXD  Jeder:RX aufwei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clear -usepriv -dirsonly MyDomainName\srv_imanfs:RWXD Jeder:RX %volumesdir%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auf alle Files muss der imanFs-Dienst-User:R (Read) Access ha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noprop -autoprotect -clear -usepriv -filesonly MyDomainName\srv_imanfs:R %volumesdir%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n der T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grant      --&gt; http://soci.hu/svn/WebHosting/trunk/ntsec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owner    --&gt; geht nur für 1 file !! http://www.certification-mcse.com/download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file.exe --&gt; http://peter.verhas.com/progs/c/nt/setfi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halten von KBA Herrn Dietmar Eberth am 19.04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DDEED7B-FFA1-4DF5-A272-B12F69ABB91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t Versionen such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eschreibung wie am Einfachsten der Zugriff auf unterschiedliche Versionen von Partfiles zugegriffen werden kan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69720" y="1484280"/>
            <a:ext cx="504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mgebungsvariable setzen: (TCE neu star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hereReferencePOMPref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369720" y="2290680"/>
            <a:ext cx="3143520" cy="227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69720" y="2100240"/>
            <a:ext cx="410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set auswählen und Verwendungsnachwei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9840" y="148428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69840" y="2036880"/>
            <a:ext cx="254160" cy="2538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9840" y="2565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135160" y="3789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40160" y="37893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ker auswählen und Eigenschaften via R-Mau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3"/>
          <a:stretch/>
        </p:blipFill>
        <p:spPr>
          <a:xfrm>
            <a:off x="2792520" y="4329000"/>
            <a:ext cx="1971720" cy="1533600"/>
          </a:xfrm>
          <a:prstGeom prst="rect">
            <a:avLst/>
          </a:prstGeom>
          <a:ln w="0">
            <a:noFill/>
          </a:ln>
        </p:spPr>
      </p:pic>
      <p:sp>
        <p:nvSpPr>
          <p:cNvPr id="93" name="Line 13"/>
          <p:cNvSpPr/>
          <p:nvPr/>
        </p:nvSpPr>
        <p:spPr>
          <a:xfrm>
            <a:off x="2540160" y="4184640"/>
            <a:ext cx="306360" cy="673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5815080" y="337176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4"/>
          <a:stretch/>
        </p:blipFill>
        <p:spPr>
          <a:xfrm>
            <a:off x="5942160" y="3625920"/>
            <a:ext cx="3046320" cy="2462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7"/>
          <p:cNvSpPr/>
          <p:nvPr/>
        </p:nvSpPr>
        <p:spPr>
          <a:xfrm>
            <a:off x="6248520" y="33717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m Eigenschaften Dialog Objekte selektieren Kopi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"/>
          <p:cNvPicPr/>
          <p:nvPr/>
        </p:nvPicPr>
        <p:blipFill>
          <a:blip r:embed="rId5"/>
          <a:stretch/>
        </p:blipFill>
        <p:spPr>
          <a:xfrm>
            <a:off x="8337600" y="5462640"/>
            <a:ext cx="1000080" cy="799920"/>
          </a:xfrm>
          <a:prstGeom prst="rect">
            <a:avLst/>
          </a:prstGeom>
          <a:ln w="0">
            <a:noFill/>
          </a:ln>
        </p:spPr>
      </p:pic>
      <p:sp>
        <p:nvSpPr>
          <p:cNvPr id="98" name="Oval 19"/>
          <p:cNvSpPr/>
          <p:nvPr/>
        </p:nvSpPr>
        <p:spPr>
          <a:xfrm>
            <a:off x="8337600" y="504972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8680320" y="4923000"/>
            <a:ext cx="131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ließend diese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 einen Ordner kopier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am 12.11.09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324000" y="2565360"/>
            <a:ext cx="1641240" cy="2541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C9ABCBF-633F-43A5-8FDB-5AB10D6B663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c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image001"/>
          <p:cNvPicPr/>
          <p:nvPr/>
        </p:nvPicPr>
        <p:blipFill>
          <a:blip r:embed="rId2"/>
          <a:stretch/>
        </p:blipFill>
        <p:spPr>
          <a:xfrm>
            <a:off x="3189240" y="2565360"/>
            <a:ext cx="6316560" cy="3903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307800" y="1189800"/>
            <a:ext cx="36309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 purgen wenn erforderl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fcc purgen 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call %fms_home%\bin\fccstat.exe –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der FCC limitieren mi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-Einstellung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le Einstellungen à Kommentare entfernen à Override =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61ED986-D173-4CD5-8432-3613781353E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w to bypass Teamcenter site preferences, e.g. for loading customization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07800" y="1375200"/>
            <a:ext cx="748368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.      Set the following environment variab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RIDE_FROM_FILE=TR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LAY_FILE=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2.      Create the preference overlay file 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x. Which overrides the customizations to loa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 name="General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_description&gt;Teamcenter Preferences&lt;/category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 name="TC_customization_libraries" type="String" array="true" disabled="false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_description&gt;Test&lt;/preference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ontext name="Teamcenter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value&gt;&lt;/valu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ontex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ategory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ote that you can add whatever site preference in this file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he format etc. can be taken from Teamcenter by exporting preferenc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ither using the Rich Client (Edit à Options…) or by using the preferences_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ommand line util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rom: Viersen, Jouke &lt;jouke.viersen@siemens.co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ate: 9 Nov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975A112-9B70-4ED8-872E-D9FFE071E6F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 Standard Template importie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New 31.10.201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15800" y="1652040"/>
            <a:ext cx="925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TC 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%UGII_BASE_DIR%\templates\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 tcin_template_setup  ohne angabe von „.bat“ anst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„D:\ugs\nx75\UGII\templates\sample“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1-10-31T12:50:48Z</dcterms:modified>
  <cp:revision>101</cp:revision>
  <dc:subject/>
  <dc:title>PLMJobManagerV2</dc:title>
</cp:coreProperties>
</file>