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CC45F-141F-4455-998C-2233EB7DF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6D62-68C5-4107-A75A-4DF9C811B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C598-5686-4F77-B498-D771FBB57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ADE5-03B7-4002-89C5-53140D8822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61BD5-D27C-4319-85FF-1F4F1DB72C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A382-8680-4719-A0E6-EC6B7E974C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AA324-F9B0-4C3A-8F7F-F405CAC01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A84B-8E9C-4D2F-8B76-AF5E1818D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4791-B833-4C4D-90A7-CA82A7996B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4002-0C0B-46AF-BB2F-C38479943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95E6-9F8D-4781-9BB7-3C68CC900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07C4-6503-4480-AB79-4131D65CB4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E075A47-2414-457E-B1F3-7F9DB6BEDA05}" type="slidenum">
              <a:rPr b="0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200?#   gedruckt am: </a:t>
            </a:r>
            <a:fld id="{CE78771E-F64C-41F4-9E28-1526C73C725F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4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5700"/>
            </a:b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JobPlaner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38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8736-1558-4126-A8B2-AAA6607528B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35000" y="1413000"/>
            <a:ext cx="9462960" cy="24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462DE-B3A5-4C82-8DF1-F4654F7E5FF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4CBD-24F5-44EE-BEB0-51230F192FB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9CF1F-851A-407B-A810-33E27036956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608F-E98E-44D3-A8ED-93C5E6AC3CF9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09-04-13T09:09:37Z</dcterms:modified>
  <cp:revision>79</cp:revision>
  <dc:subject/>
  <dc:title>PLMJobManagerV2 Docu Custome</dc:title>
</cp:coreProperties>
</file>