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6EBF8BD-3FDE-49A8-8ACC-0A6C5BE16B6F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laus Schol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C054F90-73AD-4D9C-93FB-8B1219762A88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DBE8F-A8AE-4B06-8C2C-7BEBCFAFF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7F500-C9E7-436D-95F0-81346669C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8B94B-4FFF-44D3-8FE2-A74422129D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08F00-10F4-4754-9965-4EC917A6E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99CAD-4580-46B7-98FF-CEF7337B1C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DCB0D-01D4-43B3-98E4-4024796BE8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2A337-C51F-4137-99FC-68FCD89DFD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D1BDF-24F8-40F0-95C4-61A5589075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D213F-64ED-466B-885A-A5513C3FE6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92D1F-1B0F-4CB9-88FF-0323B67358E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F4C20-A863-4EC3-A14B-15833A7DB5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88F4D-AD43-4A9C-8CB1-0A64CE64D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9C438-37FE-47E2-8CBE-1FAC99F37D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85D98-D79A-4A4A-8A8E-E0E7964BA3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FBFE1-99C1-4C41-A2E0-B5B7F019CB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6F86E-89D7-46DD-93F6-5E2B844BAA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A4EDC-8FA7-4283-812C-4D9C0F3B38F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7262-55DE-4284-A839-666CE10E6D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DBD5-18F6-4A68-89BC-0C39BBD57D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BEC7-57ED-4A19-84C4-871DF6D752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9DE3-3AFB-401C-A6F8-E6CD2BF38C8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08DE-5B6D-48F5-B2CB-09D90F0C6D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618C9-C0AD-4791-BD58-113ED6EEF2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2E01-607E-4D1B-BF1F-4C5F2111BBA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AD09-C5AB-495A-81E8-004BD8F128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6298-5614-4221-8A50-F9E5E88C7A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F858-3D57-47E9-8A59-021546FD433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1DD-7FEB-429F-9200-5C45175AA7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EE79-2ED5-447C-82FD-D42E8CC709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48D5-06C4-47B9-A60F-DC802F9088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92D08-AB8A-428F-A001-41527EA8F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4509C-C2DB-43AE-88DE-170984D173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0BAE-516A-499C-8CC8-0ED3FFE09A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6E44-5CB4-4E9E-9D48-0B7656667C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142BE-5CF5-4DB4-BB88-DE1DBE9C6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9D312-66AB-41B2-8312-59DF1A26F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Slite </a:t>
            </a:r>
            <a:fld id="{1A761FC3-2893-4F30-ABA1-C51C434BF360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51A90E81-A298-4D75-A33B-545FF7A4C6D1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C6D1D59C-A0C5-4D91-BBC2-230BA222EF52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36FFBF62-95B0-4095-B730-8F7BC9522107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A06A3BE1-518D-4BB5-9570-D92276F07FCD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806345FF-FFE7-4DCA-96D0-8F86B6A776FF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liennummernplatzhalter 2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AF8D9D0D-429B-466B-88CC-50B4345F9EAA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4160" y="3141720"/>
            <a:ext cx="9072360" cy="2627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PLM Data Check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7292880" y="5950080"/>
            <a:ext cx="25131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ed by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Name#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ion Date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Date#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E32A71E7-812F-415A-A75C-E0FC2A99454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heck #Item# #Rev# #Date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Date# #Description#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feld 4"/>
          <p:cNvSpPr/>
          <p:nvPr/>
        </p:nvSpPr>
        <p:spPr>
          <a:xfrm>
            <a:off x="236520" y="1252440"/>
            <a:ext cx="941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rt add your Doc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feld 1"/>
          <p:cNvSpPr/>
          <p:nvPr/>
        </p:nvSpPr>
        <p:spPr>
          <a:xfrm rot="20913600">
            <a:off x="1430280" y="2395440"/>
            <a:ext cx="6761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lat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py this Slide first and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Documentation into copied sl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4-18T21:49:09Z</dcterms:modified>
  <cp:revision>103</cp:revision>
  <dc:subject/>
  <dc:title>PLMJobManagerV2 Docu Custome</dc:title>
</cp:coreProperties>
</file>