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63EFE16-4CA0-455A-8D58-7D5E5F1A68E6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7D08306-4015-47D3-A7CD-CAF4AACB80F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644A-2822-4FBD-B420-8B68405C6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26EE1-803F-4AC6-9AC1-CA82BB7EA4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6FA69-3CBE-4770-B08D-B7472A701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08F7-B822-4378-87F0-DF2710CE0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D083E-0E87-48F5-B549-D97C320D5B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7211A-903F-4473-ABF0-7872169DED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E9D5-C717-4AA8-9A4A-AC7127F966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1A152-6BB3-49C2-A356-444D5D28E3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09DF8-EE82-4D38-9DCF-A2D733100E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AD4FD-7D6A-4F87-857A-6D351C0240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04EB5-2BC3-45A3-848F-86CC92BEFB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8D8D-CBDF-44C3-B846-9420C732BB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CB1B8-EE5F-4763-91F8-342FC3EAB2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02939-008B-4E2D-B9E7-B69E691220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8B31F-8C6C-40F1-B2CA-C2C768407D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1A988-F9D7-48E7-A6FB-04D2EA2C1D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715F8-445A-4075-8271-82EE44441ED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08A7-20F2-410E-B736-93153A2113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C285-1315-466F-BEBE-6C1696F9FE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8033-B478-4BFF-A659-BBCF93596F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4133-EAD6-4881-A7E1-9A3823309F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4E4-6C1E-476E-AC09-F9FF259B01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2113-3251-4BF3-A7CD-B471386584E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8E9-B9BC-42BA-8047-1ECE37264D4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DAFA-6056-40E6-A879-E8D1555BDD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87DA-44F7-4144-83A0-DC1E1464C6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71D8-0261-4BE8-86BB-A6D773886C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FA9C-1255-42FC-9312-4FAE2259B9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38AE-BB04-4138-B1BF-33B341EC93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BB2-1B9A-4E35-AF9D-5E62BA0A0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530F9-D63D-420A-9713-A5365A3232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E14D6-D64E-4DD0-A340-41A698B49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F75B4-222D-4C6D-B681-B2167707A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1A41-4DCF-4617-B06F-6E6AF6344F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D9FD1-A59D-4A46-8149-9AA0C6D64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FF52-97ED-470B-9E11-74674A298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C3874C36-E7AE-4DE1-AAE5-6E0B24502E26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74047DC0-EF3A-4A1C-AD3E-481A1942CE1C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53AD00C9-27EE-496D-B3CC-94BD4BF420FB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F279617-A639-4A35-808A-F48548CDB4C1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E83A8C62-4FCF-4F03-A5DE-323B5BA1854C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333CCE0D-91A7-4E96-A942-F7B03A94FE20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17EBD65-2480-4816-8E0E-12E9AE8499D1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Setup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E42CA04-E540-493E-9379-A886376F6B3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51"/>
          <p:cNvSpPr/>
          <p:nvPr/>
        </p:nvSpPr>
        <p:spPr>
          <a:xfrm>
            <a:off x="285840" y="1461960"/>
            <a:ext cx="94629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stallation JobServer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C: \\CustomServer\plmshare\JobManagerV2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JobServer läuft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obServer: \\CustomServ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     Port  13001 .. 13002 muss freigeschaltet se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C – NX Installation Organis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System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Data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data\tnsnames.ora  -&gt; tctes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Command-Prompt: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scripts\start_tc_cmd.cm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%UGS_SHR_DIR%\start_apps\windows\start_nx75.bat de tc_prompt #TcSiteId# tc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70FB71F-ED12-4847-9248-4846C8E3E431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stallation SQL Server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65E4F05-D8CE-48B9-A955-6B66B24FE4C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feld 4"/>
          <p:cNvSpPr/>
          <p:nvPr/>
        </p:nvSpPr>
        <p:spPr>
          <a:xfrm>
            <a:off x="135000" y="1376280"/>
            <a:ext cx="941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51:41Z</dcterms:modified>
  <cp:revision>105</cp:revision>
  <dc:subject/>
  <dc:title>PLMJobManagerV2 Docu Custome</dc:title>
</cp:coreProperties>
</file>